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9393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5CE-1371-42CF-8B49-2ED2E025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F96-3087-4463-A3AC-E3803838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156-F0AC-4397-85A2-E2B51AD8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7A6-1C58-4BBB-A810-3B9EDE68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346C-4361-4E03-9566-08514978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8037-B0D0-4799-8708-3AD282DD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FCF7-CA51-4EB2-B16D-D2528EFD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063D-04C6-43E0-81D0-D940CD4D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BC70-8A3D-4621-8944-1AF8824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E148-36F9-4525-8C94-425BFC3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E9C7-34FF-4CA2-88BD-AEC589C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071-9468-4468-AED5-EACE0D4E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0015-17D8-46EB-B485-F2433A16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A47E-497F-439B-A210-D3631D8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1595-AC2B-42FC-BD6F-8A885F0A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5440-6258-4C9C-A581-5B02CE92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D1A1-4E23-42A6-8100-79B0B00A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4BF-D858-4DAA-A33D-78EBBFFE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AE9-A6E2-4834-8124-927D94A4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944-6226-433B-A2B9-5AC8802D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A23-8BD9-428D-BADB-77718D1D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897-0A1C-4197-9A05-5A5FC12A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37E-17CF-4950-BF1D-CCDA0384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CFD-6D7D-4364-8B97-AF20E4E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EE7F-B4B5-4702-864A-7B1282152F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A535-B625-4FBF-9F88-AB426DACC8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razum@rosnedra.co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собенности подготовки Доклада о результатах и основных направлениях деятельности Федерального агентства по недропользовани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умовский Д.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меститель начальника отдела финансового обеспечения Росне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05080" y="333360"/>
            <a:ext cx="1388520" cy="1302480"/>
            <a:chOff x="3205080" y="333360"/>
            <a:chExt cx="1388520" cy="13024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3205080" y="333360"/>
              <a:ext cx="111744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257640" y="126756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снедра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1960" y="333360"/>
            <a:ext cx="2491200" cy="1302480"/>
            <a:chOff x="471960" y="333360"/>
            <a:chExt cx="2491200" cy="130248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755640" y="333360"/>
              <a:ext cx="17287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1960" y="1267560"/>
              <a:ext cx="24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нприроды Росси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E15-B0DD-455B-9FE9-3C5F0FA009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1. Цели, задачи и показатели деятельност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48428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ервом разделе Доклада формулируются стратегические цели органа исполнительной власти, подведомственных ему организаци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аждой стратегической цели приводятся формулировки и краткие характеристики соответствующих тактических задач (основных направлений деятельн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82B-C0F8-4DF6-9906-C2D697EA7E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Раздел 1. Цели, задачи и показатели деятельности (пример Роснедр)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252360" y="1198440"/>
            <a:ext cx="86425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1. Обеспечение  воспроизводства (восстановления) природных ресурс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казатель достижения цели 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омпенсации добычи полезных ископаемых приростом запасов, который может быть получен за счет локализации и оценки прогнозных ресурс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ча 1.1. Обеспечение воспроизводст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нерально-сырьевой баз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казатели решения задачи 1.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е объема локализованных и оцененных прогнозных ресурсов углеводородного сырья к объему погашенных запас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е объема локализованных и оцененных прогнозных ресурсов твердых полезных ископаемых к объему погашенных запасов (по  видам сырья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ст объема разведанных за счет средств федерального бюджета запасов подземных в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ча 1.2. Обеспечение геологической изученности территории Российской Федерации и ее континентального шельфа, получение геологической информа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казатель решения задачи 1.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ень изученности территории и континентального шельфа Российской Федерации  работами общегеологического и специального назнач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1FC-6921-4A8E-8751-18B08F44C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2. Расходные обязательства и формирование доходов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42472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полняемые расходные обязатель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ылка на нормативно-правовой ак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 оценки объема затра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рмативны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дексация расходов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рмульный (нормативно закрепленная или сложившаяся формула расходо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ой (с описанием метода оцен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ирование дох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доходов, по которым ведомство является администратором дох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министрирование доход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комплекс мероприятий, включающий контроль за правильностью исчисления, полнотой и своевременностью уплаты, начисления, учета, взыскания и принятия решения о возврате (зачете) излишне уплаченных (взысканных) платежей в бюджет, пеней и штрафов по ни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4F5-7846-41B4-B04E-DE1314680C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Расходные обязательства (пример Роснедр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0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271520"/>
            <a:ext cx="820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деятельности центрального аппарата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рриториальных орган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латы независимым эксперт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деятельности (содержание) бюджет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реждений, подведомственных федеральному органу исполнительной вла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лата налога на имущество организаций и земельного нало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еологическое изучение недр и воспроизводство минерально-сырьевой баз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ение научно-исследовательских и опытно-конструкторских работ по государственным контракт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жильем федеральных государственных гражданских служащи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ые инвестиции в объекты капитального строительства, не включенные в федеральные целевые програм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851-90F7-4B9E-B898-D2F8A210E6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Расходные обязательства (пример Роснедр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268280"/>
          <a:ext cx="8362800" cy="5021280"/>
        </p:xfrm>
        <a:graphic>
          <a:graphicData uri="http://schemas.openxmlformats.org/drawingml/2006/table">
            <a:tbl>
              <a:tblPr/>
              <a:tblGrid>
                <a:gridCol w="3097080"/>
                <a:gridCol w="357480"/>
                <a:gridCol w="392040"/>
                <a:gridCol w="690480"/>
                <a:gridCol w="431640"/>
                <a:gridCol w="844560"/>
                <a:gridCol w="879480"/>
                <a:gridCol w="881280"/>
                <a:gridCol w="788760"/>
              </a:tblGrid>
              <a:tr h="42876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исполняемых расходных обязательств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дерального агентства по недропользован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рмативный правовой акт/ реше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 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 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 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новление Правительства РФ от 17.06.2004  № 293 "Об утверждении положения о Федеральном агентстве по недропользованию" пол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0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 68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7 45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2 6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новление Правительства РФ от 17.06.2004  № 293 "Об утверждении положения о Федеральном агентстве по недропользованию" пол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7 58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6 52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1 57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новление Правительства РФ от 12.08.2005 № 509 "О порядке оплаты труда  независимых экспертов, включаемых в составы аттестационной и конкурсной комиссий, а также комиссий по соблюдению требований к служебному поведению федеральных государственных гражданских служащих и урегулированию конфликта интересов, образуемых федеральными государственными органами" пол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0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новление Правительства РФ от 17.06.2004  № 293 "Об утверждении положения о Федеральном агентстве по недропользованию" - пункт 4 раздела 1 Поло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9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3 97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4 46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 68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37E-D353-4760-8127-BFB0CCC7F4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ормирование доходов (пример Роснедр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676680" y="199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052640"/>
          <a:ext cx="9144000" cy="4824360"/>
        </p:xfrm>
        <a:graphic>
          <a:graphicData uri="http://schemas.openxmlformats.org/drawingml/2006/table">
            <a:tbl>
              <a:tblPr/>
              <a:tblGrid>
                <a:gridCol w="1028880"/>
                <a:gridCol w="1842840"/>
                <a:gridCol w="747720"/>
                <a:gridCol w="747720"/>
                <a:gridCol w="827280"/>
                <a:gridCol w="761760"/>
                <a:gridCol w="855720"/>
                <a:gridCol w="795240"/>
                <a:gridCol w="789120"/>
                <a:gridCol w="747720"/>
              </a:tblGrid>
              <a:tr h="72864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платежей в федеральный бюджет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дминистатор до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латеж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четны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овы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к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к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нед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911202011010000120 Разовые платежи за пользование недрами при наступлении определенных событий, оговоренных в лицензии (бонусы), при пользовании недрами на территории Российской Федерации по месторождениям и участкам недр (кроме участков недр, содержащих месторождения общераспространенных полезных ископаемых, или участков недр местного знач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560 0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 144 08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 000 0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 557 56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 810 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 025 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 025 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 025 1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4911202020010000120 Плата за геологическую информацию о недрах при пользовании недрами на территории Российской Федер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 0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 59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 0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 608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4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9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9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9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C66-C98E-4840-8DF9-AA07E1B0D3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3. Бюджетные целевые программы и непрограммная деятельность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70028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разделе Доклада приводится краткое описание в структурированном вид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твержде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ледующий плановый год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лагаемых к утвержд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оследующие плановые годы бюджетных целевых программ (с выделением подпрограмм при их наличии), а такж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налитических ведомственных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правленных на решение задач органа исполнительной власти, описывается основное содерж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программн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и органа исполнительной в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708-27ED-48F9-82B4-1D439F7151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Нормативные документы, регламентирующие подготовку ведомственных целевых программ (ВЦП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6720" y="1773360"/>
          <a:ext cx="1400400" cy="111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773360"/>
                    <a:ext cx="1400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68360" y="4221000"/>
          <a:ext cx="1162080" cy="11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221000"/>
                    <a:ext cx="1162080" cy="11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050920" y="1484280"/>
            <a:ext cx="6774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ный кодекс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от 19.04.2005 № 239 «Об утверждении положения о реализации ведомственных целевых програм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CCD-D2CA-4330-AE4E-42E3175AFB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едомственные целевые программы (ВЦП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981000"/>
            <a:ext cx="77058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омственные целевые программы базируются на системе целей, задач и показателей деятельности органов исполнительной в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ЦП должна содержать опис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ей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жидаемых результа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като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урсов, внешних условий и рисков ре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я реализацией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AA8-DCE4-4F48-9BC3-05B4059A3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едомственные целевые программы (ВЦП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0920" y="907560"/>
            <a:ext cx="4182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Утверждаемая ВЦП (целевая программа ведом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спорт целевой программы ведом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1.Характеристика проблемы (задач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2.Цели и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3. Ожидаемы результ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4. Перечень программных меро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5. Сроки реализ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6. Описание послед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7. Оценка эффективности расходования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8. Методика оценки эффе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9. Обоснование потребности в ресурс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10. Система управления реализацией целевой программы ведом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125360"/>
            <a:ext cx="40384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Аналитическая ВЦП (аналитическая программа ведомств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1. Описание цели программы и целевых индикато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дел 2. Обоснование объемов и состава расходов сред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319-8351-44A6-93E1-6C656AAB72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Доклад о результатах и основных направлениях деятельности (ДРОНД) Роснедр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сновные принципы бюджетног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Нормативные документы, регламентирующие подготовку ДР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труктура и порядок подготовки ДРОНДа Росн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Система оценочных показателей деятельности Росн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99A-1D1C-4778-A376-D0BE4007EA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Порядок подготовки целевой программы ведомства (ЦПВ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-2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87280" y="549360"/>
          <a:ext cx="7129800" cy="61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360"/>
                    <a:ext cx="7129800" cy="61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801-CBF7-4D02-A525-93814391BF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едомственные целевые программы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(пример Роснедр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я с 2006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оснедра реализуют аналитические ведомственные целевые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роизводство минерально-сырьевой базы углеводородного сыр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роизводство минерально-сырьевой базы твердых полезных ископаем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роизводство минерально-сырьевой базы подземных вод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Геологоразведочные работы общегеологического и специального назначе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ицензирование пользования недр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ниторинг состояния нед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C9A-6655-45E1-A071-E88ED698CA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Бюджетные целевые программы (пример Роснедр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700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2708280"/>
          <a:ext cx="8496000" cy="3781440"/>
        </p:xfrm>
        <a:graphic>
          <a:graphicData uri="http://schemas.openxmlformats.org/drawingml/2006/table">
            <a:tbl>
              <a:tblPr/>
              <a:tblGrid>
                <a:gridCol w="3681360"/>
                <a:gridCol w="534960"/>
                <a:gridCol w="488880"/>
                <a:gridCol w="488880"/>
                <a:gridCol w="488880"/>
                <a:gridCol w="489240"/>
                <a:gridCol w="596880"/>
                <a:gridCol w="576000"/>
                <a:gridCol w="574920"/>
                <a:gridCol w="576000"/>
              </a:tblGrid>
              <a:tr h="28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бюджетной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грамм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воспроизводства минерально-сырьевой базы углеводородного сыр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казатели уровня достижения цел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объема локализованных и оцененных прогнозных ресурсов углеводородного сырья к объему погашен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реализацию программ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395280" y="774000"/>
            <a:ext cx="8748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АВЦП «Воспроизводство минерально-сырьевой базы углеводородного сырья (2006-2011 годы)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татус программы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налитическая ведомственная целевая программа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Цели и задачи субъекта бюджетного планирования, решение которых будет обеспечено реализацией бюджетной целевой программы: цель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еспечение воспроизводства (восстановления) природных ресурсов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еспечение воспроизводства минерально-сырьев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рок реализации программы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06-2011 г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Цели программы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еспечение воспроизводства минерально-сырьевой базы углеводородного сырья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сновные мероприятия програм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окализация и оценка прогнозных ресурсов углеводородного сыр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сновные показатели реализации програм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DF4-39AC-44BC-A419-8E65EDF4EA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Непрограммная деятельность (пример Роснедр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700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801000"/>
            <a:ext cx="867564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раткая характеристика непрограммной деятельности Федерального агентства по недропользов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ли и задачи субъекта бюджетного планирования, решение которых будет обеспечено непрограммной деятельность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ли - обеспечение воспроизводства (восстановления) природных ресурсов; создание условий для повышения эффективности использования  природных ресурсов;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щищеннос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кружающе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сре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селения и объектов экономик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дачи –  обеспечение воспроизводства минерально-сырьевой базы; обеспечение геологической изученности территории Российской Федерации и ее континентального шельфа, получение геологической информации; создание условий для повышения эффективности использования федерального фонда недр; снижение ущерба от негативных геологических процессов и явл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сновные мероприятия непрограммной деятель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обеспечение деятельности центрального аппарата и территориальных органов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выплаты независимым экспер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обеспечение деятельности (содержание) бюджетных учреждений, подведомственных федеральному органу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уплата налога на имущество организаций и земельного нало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вознаграждения за выявление месторождений полезных ископае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обеспечение жильем федеральных государственных гражданских служащи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резервный фонд Правительства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программно-технический комплекс для Министерства природных ресурсов  Республики Башкортост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приобретение оборудования, не входящего в сметы строек, для подразделения ГУП «Башгеолцентр РБ», Министерство природных ресурсов Республики Башкортост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реконструкция  НИС «Академик Александр Карпинский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436-20D5-4BC4-9724-305A464BF3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4. Распределение расходов по целям, задачам и программам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70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азделе Доклада приводится анализ сложившейся и планируемой структуры расходов по целям, задачам и программам и тенденций ее изменения в отчетном и плановом пери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88E-4FFB-420B-9E68-46D4425187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спределение расходов по целям, задачам и программам (пример Роснедр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70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3240" y="125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268280"/>
          <a:ext cx="8394840" cy="4810320"/>
        </p:xfrm>
        <a:graphic>
          <a:graphicData uri="http://schemas.openxmlformats.org/drawingml/2006/table">
            <a:tbl>
              <a:tblPr/>
              <a:tblGrid>
                <a:gridCol w="3149640"/>
                <a:gridCol w="888840"/>
                <a:gridCol w="863640"/>
                <a:gridCol w="863640"/>
                <a:gridCol w="825480"/>
                <a:gridCol w="990720"/>
                <a:gridCol w="812880"/>
              </a:tblGrid>
              <a:tr h="215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ли, задачи и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четны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н.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н.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н.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ль 1. Обеспечение воспроизводства (восстановления) природных ресурс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794,4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287,6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477,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 1.1. Обеспечение воспроизводства минерально-сырьевой ба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793,5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108,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15,4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ЦП "Воспроизводство минерально-сырьевой базы углеводородного сырья  (2006–2011 годы)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16,5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37,8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784,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ЦП "Воспроизводство минерально-сырьевой базы твердых полезных ископаемых  (2006–2011 годы)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69,9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07,1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70,7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ЦП "Воспроизводство минерально-сырьевой базы подземных вод  (2006–2011 годы)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1,9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2,7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6,6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распределено по программ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,0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,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3,3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 1.2. Обеспечение геологической изученности территории Российской Федерации и ее континентального шельфа, получение геологической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0,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79,6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61,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ЦП "Геологоразведочные работы общегеологического и специального назначения  (2006-2011 годы)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63,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35,6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13,7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C39-6DBF-4B0C-AE33-391D50DCB4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5. Результативность бюджетных расходов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70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57088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 оценки результативности: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тепень достижения целей, решения тактических задач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епень соответствия запланированному уровню затра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тклонения показателей результатов деятельности и затрат на отчетный год от плановых показателей на этот год и аргументированное обоснование причин такого отклонения, включая: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боснование ситуаций, когда показатели по целям выполнены, а по соответствующим им задачам или программам – не выполнены, а также ситуаций, когда показатели по целям не выполнены, а по соответствующим им задачам или программам – выполнены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боснование ситуаций, когда не достигнутые плановые показатели отчетного периода устанавливаются в качестве плановых показателей планового период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боснование ситуаций, когда сочетается значительное недовыполнение одних задач и перевыполнение други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боснование ситуаций значительного перевыполнения по большинству плановых показател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Отклонения плановых показателей результатов и затрат на очередной плановый год от плановых показателей на указанный год, определенных в предшествующем году, и аргументированное обоснование причин такого отклонени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2DD-305D-49BB-B536-21334F02AA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5. Результативность бюджетных расходов (пример Роснедр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125360"/>
            <a:ext cx="8570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налитические показатели эффективности деятельности Роснед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тенциальная экономическая эффек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яется как отношение прироста стоимости недр, полученного за счет локализации и оценки прогнозных ресурсов полезных ископаемых, к затратам федерального бюджета на его получение (в рублях на 1 рубль затрат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эффективность воспроизводства минерально-сырьевой ба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яется как отношение прироста стоимости недр, полученного за счет локализации и оценки прогнозных ресурсов полезных ископаемых, к стоимости добытых полезных ископаемых за этот период (в 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ффективность достижения резуль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яется как отношение доли прироста полученных в текущем году результатов к доле прироста понесенных затрат на реализацию ведомственных целевых програм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сли Э &gt; 1, то темпы изменения результатов опережают темпы изменения величины расходов, что свидетельствует о повышении эффективности использования средств федерального бюдже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52720" y="4724280"/>
            <a:ext cx="717840" cy="53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F15-11B2-4629-9C34-7E6BA4241F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5. Результативность бюджетных расходов (пример Роснедр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3120" y="1268280"/>
            <a:ext cx="85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енциальная экономическая эффективност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уб/ру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628640"/>
          <a:ext cx="8640720" cy="4383360"/>
        </p:xfrm>
        <a:graphic>
          <a:graphicData uri="http://schemas.openxmlformats.org/drawingml/2006/table">
            <a:tbl>
              <a:tblPr/>
              <a:tblGrid>
                <a:gridCol w="4092840"/>
                <a:gridCol w="1514160"/>
                <a:gridCol w="1516320"/>
                <a:gridCol w="151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ных ископаем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ородное сырь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ое топливо (уг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новое сы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атные калийные с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атное сы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A2F-9C75-403F-8054-202128DB99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5. Результативность бюджетных расходов (пример Роснедр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3120" y="1268280"/>
            <a:ext cx="85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ффективность воспроизводства минерально-сырьевой базы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1700280"/>
          <a:ext cx="8077320" cy="4263840"/>
        </p:xfrm>
        <a:graphic>
          <a:graphicData uri="http://schemas.openxmlformats.org/drawingml/2006/table">
            <a:tbl>
              <a:tblPr/>
              <a:tblGrid>
                <a:gridCol w="3863880"/>
                <a:gridCol w="1476360"/>
                <a:gridCol w="1486080"/>
                <a:gridCol w="12510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ных ископаем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ородное сы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ое топливо (уг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новое сы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атные калийные с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атное сы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AC9-AF03-41D8-8E85-6B7D4DF270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81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принципы бюджетного планирования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 2005 года – планирование «от достигнут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формируется путем индексации сложившихся рас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альная разбивка расходов по статьям бюджетной класс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ко контролируется соответствие фактических и плановых финансовых показа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ует обоснование результатов бюджетных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005 – 2007 годы – «переходный перио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апное внедрение принципов бюджетирования, ориентированного на результ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 к формированию бюджета исходя из целей и  планируемых результатов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 к трехлетнему бюджетному план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FC4-F21E-4F5C-961B-014C21B43D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дел 5. Результативность бюджетных расходов (пример Роснедр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120" y="1125360"/>
            <a:ext cx="85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ффективность достижения результатов (доли единиц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39640" y="1600200"/>
          <a:ext cx="8147160" cy="4276800"/>
        </p:xfrm>
        <a:graphic>
          <a:graphicData uri="http://schemas.openxmlformats.org/drawingml/2006/table">
            <a:tbl>
              <a:tblPr/>
              <a:tblGrid>
                <a:gridCol w="3973680"/>
                <a:gridCol w="882720"/>
                <a:gridCol w="1098360"/>
                <a:gridCol w="1093680"/>
                <a:gridCol w="1098720"/>
              </a:tblGrid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ая целевая програм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спроизводство минерально-сырьевой базы углеводородного сырья (2006-2011 годы)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финанс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955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462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401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ы-дефлято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финансирования в ценах 2008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608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510,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481,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й индикатор программы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объема локализованных и оцененных прогнозных ресурсов углеводородного сырья к объему погашенных запа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ость использования средств федерального бюджета на реализацию программ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169-9F43-4D9D-A779-60FE4FB651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истема оценочных показателей деятельности Роснедр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810080"/>
            <a:ext cx="82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вается на принципе декомпозиции стратегических целей и тактических задач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ет все основные направления деятельности Роснедр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при подготовке ДРОНДов Роснедр, плана деятельности на предстоящий год, пояснительной записки к бюджетной отчет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о совершенствуется и развива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517-4333-46A5-B9BB-C8B1047AD7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истема оценочных показателей деятельности Роснедр (уровень стратегических целей и тактических задач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197000"/>
            <a:ext cx="7705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95280" y="1773360"/>
          <a:ext cx="8229600" cy="4387680"/>
        </p:xfrm>
        <a:graphic>
          <a:graphicData uri="http://schemas.openxmlformats.org/drawingml/2006/table">
            <a:tbl>
              <a:tblPr/>
              <a:tblGrid>
                <a:gridCol w="244440"/>
                <a:gridCol w="822240"/>
                <a:gridCol w="244440"/>
                <a:gridCol w="954360"/>
                <a:gridCol w="242640"/>
                <a:gridCol w="1022400"/>
                <a:gridCol w="346320"/>
                <a:gridCol w="2654280"/>
                <a:gridCol w="242640"/>
                <a:gridCol w="1455840"/>
              </a:tblGrid>
              <a:tr h="4006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ая ц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еская задач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ая целевая пр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воспроизводства (восстановления) природных ресур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компенсации добычи полезных ископаемых приростом локализованных и оцененных прогнозных ресурсов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воспроизводства минерально-сырьевой ба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объема локализованных и оцененных прогнозных ресурсов углеводородного сырья к объему погашенных запасов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оизводство минерально-сырьевой базы  углеводородного сыр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объема локализованных и оцененных прогнозных ресурсов твердых полезных ископаемых к объему погашенных запасов (по видам сырья), %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твердое топливо (угли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урановое сырь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металлы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железо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едь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кель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лагородные металлы и алмазы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олото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латин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лмазы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неметаллы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ульфатные калийные сол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осфатное сырь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оизводство минерально-сырьевой базы  твердых полезных ископаем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объема разведанных за счет средств федерального бюджета запасов подземных вод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оизводство минерально-сырьевой базы  подземных во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1F6-CBC6-469A-9B66-5B01086EEA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истема оценочных показателей деятельности Роснедр (уровень ВЦП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197000"/>
            <a:ext cx="7705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43000"/>
                <a:gridCol w="752400"/>
                <a:gridCol w="863640"/>
                <a:gridCol w="1193760"/>
                <a:gridCol w="996840"/>
                <a:gridCol w="1392480"/>
                <a:gridCol w="1195200"/>
                <a:gridCol w="1592280"/>
              </a:tblGrid>
              <a:tr h="1046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едомственной целевой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ведомственной целевой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ведомственной целевой программы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оизводство минерально-сырьевой базы  углеводородного сыр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воспроизводства минерально-сырьевой базы углеводородного сыр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объема локализованных и оцененных прогнозных ресурсов углеводородного сырья к объему погашенных запасов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геологического изучения недр, обеспечивающего воспроизводство минерально-сырьевой базы углеводородного сырь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объема финансирования геологоразведочных работ за счет средств федерального бюджета к объему локализованных и оцененных прогнозных ресурсов углеводородного сырья,  руб./т.у.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Локализация и оценка прогнозных ресурсов нефт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локализованных и оцененных прогнозных ресурсов нефти, млн. 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Локализация и оценка прогнозных ресурсов природного га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локализованных и оцененных прогнозных ресурсов природного газа,  млн.  м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EA9-C0C4-418F-AC08-5200BF9593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истема оценочных показателей деятельности Роснедр (уровень непрограммной деятельности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1773360"/>
          <a:ext cx="8229600" cy="4290840"/>
        </p:xfrm>
        <a:graphic>
          <a:graphicData uri="http://schemas.openxmlformats.org/drawingml/2006/table">
            <a:tbl>
              <a:tblPr/>
              <a:tblGrid>
                <a:gridCol w="289080"/>
                <a:gridCol w="955440"/>
                <a:gridCol w="339840"/>
                <a:gridCol w="1000080"/>
                <a:gridCol w="441360"/>
                <a:gridCol w="2581200"/>
                <a:gridCol w="26226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ая ц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еская задач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 непрограммной деятельност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непрограммной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воспроизводства (восстановления) природных ресур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воспроизводства минерально-сырьевой ба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и сопровождение государственных контрактов на выполнение работ по воспроизводству минерально-сырьевой ба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ъектов государственного заказа  на выполнение работ по воспроизводству минерально-сырьевой базы, контра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и сопровождение государственных контрактов на выполнение научно-исследовательских и опытно-конструкторских работ, направленных на обеспечение воспроизводства минерально-сырьевой ба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ъектов государственного заказа на выполнение научно-исследовательских и опытно-конструкторских работ, направленных на обеспечение воспроизводства минерально-сырьевой базы, контра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экспертизы проектно-сметной документации на выполнение работ по воспроизводству минерально-сырьевой базы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оличества проектно-сметной документации на выполнение работ по воспроизводству минерально-сырьевой базы, подготовленной в  соответствии с требованиями нормативных и методических документов к общему количеству  проектно-сметной документации на выполнение работ по воспроизводству минерально-сырьевой базы, поступившей на экспертизу, 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финансирования государственных контрактов на выполнение работ по воспроизводству минерально-сырьевой ба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инятых Роснедрами актов выполненных работ по воспроизводству минерально-сырьевой базы, а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A95-2FA2-45D2-AD99-B165361E77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истема оценочных показателей деятельности Роснедр (уровень непрограммной деятельности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4237200"/>
        </p:xfrm>
        <a:graphic>
          <a:graphicData uri="http://schemas.openxmlformats.org/drawingml/2006/table">
            <a:tbl>
              <a:tblPr/>
              <a:tblGrid>
                <a:gridCol w="298440"/>
                <a:gridCol w="1689120"/>
                <a:gridCol w="398520"/>
                <a:gridCol w="2755800"/>
                <a:gridCol w="3087720"/>
              </a:tblGrid>
              <a:tr h="40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непрограммн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 непрограммной деятель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непрограммн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граммная деятельности в сфере финансово-экономического обесп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ие изменений в бюджетную росп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, характеризующий сумму изменений в бюджетную роспись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сполнения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, характеризующий объем неисполненных на конец отчетного финансового года бюджетных ассигнований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равномерности расходов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, характеризующий равномерность расходов федерального бюдже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лимитов бюджетных обязательств между подведомственными РБС и ПБС, находящимися в непосредственном подчин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, характеризующий распределение лимитов бюджетных обязательств между подведомственными РБС и ПБС, находящимися в непосредственном подчинении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кредиторской задолженностью по расчетам с поставщиками и подрядчик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ость управления кредиторской задолженностью по расчетам с поставщиками и подрядчиками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кредиторской задолженностью по расчетам  по платежам в бюдже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ость управления кредиторской задолженностью по расчетам  по платежам в бюджеты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ирование доходов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от плана формирования доходов по администратору доходов федерального бюдже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DBF-8FB4-41D3-B463-CD40A8429E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умовский Дмитрий Олегович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тел.: (495) 254-81-1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razum@rosnedra.com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205080" y="333360"/>
            <a:ext cx="1388520" cy="1302480"/>
            <a:chOff x="3205080" y="333360"/>
            <a:chExt cx="1388520" cy="130248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205080" y="333360"/>
              <a:ext cx="111744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257640" y="126756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снедра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71960" y="333360"/>
            <a:ext cx="2491200" cy="1302480"/>
            <a:chOff x="471960" y="333360"/>
            <a:chExt cx="2491200" cy="130248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755640" y="333360"/>
              <a:ext cx="17287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71960" y="1267560"/>
              <a:ext cx="24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нприроды Росси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122-A1AA-471F-9879-195C214C53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81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принципы бюджетного планирования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008 и последующие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бюджета исходя из целей и  планируемых результатов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язка бюджетных ассигнований к функциям и видам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финансовой самостоятельности и ответственности ведом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дрение финансового менеджмента и внутреннего аудита результа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новых инструментов бюджетного планирования (реестр расходных обязательств (РРО), обоснования бюджетных ассигнований (ОБАС), доклад о результатах и основных направлениях деятельности (ДРОНД), ведомственные целевые программы (ВЦП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BB5-C21D-4327-958A-081E62D2A1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Этапы внедрения новой системы бюджетного планирования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71640" y="1173240"/>
          <a:ext cx="7704000" cy="49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7040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124080" y="2060640"/>
            <a:ext cx="2971800" cy="3425760"/>
          </a:xfrm>
          <a:prstGeom prst="cloudCallout">
            <a:avLst>
              <a:gd name="adj1" fmla="val -53527"/>
              <a:gd name="adj2" fmla="val 38972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DB9-8DFF-4160-88E1-2F6D3E2B0B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ормативные документы, регламентирующие подготовку ДРОНДов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1773360"/>
          <a:ext cx="11620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11620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050920" y="1700280"/>
            <a:ext cx="6774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от 22.05.2004 № 249 «О мерах по повышению результативности бюджетных расходов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одготовке Докладов о результатах и основных направлениях деятельности субъектов бюджетного планирования (согласованы Минфином России и Минэкономразвития Росс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82480" y="4118040"/>
          <a:ext cx="103212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2480" y="4118040"/>
                    <a:ext cx="10321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8E1-951A-45BA-B5BC-0A3F48280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Принципы формирования ДРОНДо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125800" y="2708280"/>
            <a:ext cx="4464000" cy="1254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тические задачи ведом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4149720"/>
            <a:ext cx="4921200" cy="1265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омственные целевые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инструмент решения тактических задач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5516640"/>
            <a:ext cx="2162160" cy="60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Tahoma"/>
              </a:rPr>
              <a:t>Мероприятия програ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5300640"/>
            <a:ext cx="169416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5f5f5f"/>
                </a:solidFill>
                <a:uFillTx/>
                <a:latin typeface="Tahoma"/>
              </a:rPr>
              <a:t>Результаты:</a:t>
            </a:r>
            <a:r>
              <a:rPr b="1" lang="ru-RU" sz="1600" spc="-1" strike="noStrike">
                <a:solidFill>
                  <a:srgbClr val="5f5f5f"/>
                </a:solidFill>
                <a:latin typeface="Tahoma"/>
              </a:rPr>
              <a:t> показатели мероприят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7440" y="4221000"/>
            <a:ext cx="1690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5f5f5f"/>
                </a:solidFill>
                <a:uFillTx/>
                <a:latin typeface="Tahoma"/>
              </a:rPr>
              <a:t>Результаты:</a:t>
            </a:r>
            <a:r>
              <a:rPr b="1" lang="ru-RU" sz="1600" spc="-1" strike="noStrike">
                <a:solidFill>
                  <a:srgbClr val="5f5f5f"/>
                </a:solidFill>
                <a:latin typeface="Tahoma"/>
              </a:rPr>
              <a:t> показатели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2708280"/>
            <a:ext cx="16192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5f5f5f"/>
                </a:solidFill>
                <a:uFillTx/>
                <a:latin typeface="Tahoma"/>
              </a:rPr>
              <a:t>Результаты:</a:t>
            </a:r>
            <a:r>
              <a:rPr b="1" lang="ru-RU" sz="1600" spc="-1" strike="noStrike">
                <a:solidFill>
                  <a:srgbClr val="5f5f5f"/>
                </a:solidFill>
                <a:latin typeface="Tahoma"/>
              </a:rPr>
              <a:t> показатели зада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08720" y="1268280"/>
            <a:ext cx="1548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5f5f5f"/>
                </a:solidFill>
                <a:uFillTx/>
                <a:latin typeface="Tahoma"/>
              </a:rPr>
              <a:t>Результа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5f5f"/>
                </a:solidFill>
                <a:latin typeface="Tahoma"/>
              </a:rPr>
              <a:t>показат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5f5f"/>
                </a:solidFill>
                <a:latin typeface="Tahoma"/>
              </a:rPr>
              <a:t>ц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300720" y="1628280"/>
            <a:ext cx="665280" cy="1800"/>
          </a:xfrm>
          <a:prstGeom prst="line">
            <a:avLst/>
          </a:prstGeom>
          <a:ln w="5724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1755720" y="3349080"/>
            <a:ext cx="454356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Tahoma"/>
              </a:rPr>
              <a:t>Ресурс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Tahoma"/>
              </a:rPr>
              <a:t>имеющиеся (трудовые, материальные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Tahoma"/>
              </a:rPr>
              <a:t>и требуемые (финансовы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773360"/>
            <a:ext cx="790560" cy="3395520"/>
          </a:xfrm>
          <a:custGeom>
            <a:avLst/>
            <a:gdLst>
              <a:gd name="textAreaLeft" fmla="*/ 123480 w 790560"/>
              <a:gd name="textAreaRight" fmla="*/ 691920 w 790560"/>
              <a:gd name="textAreaTop" fmla="*/ 848880 h 3395520"/>
              <a:gd name="textAreaBottom" fmla="*/ 2546640 h 339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1b3b15"/>
              </a:gs>
              <a:gs pos="100000">
                <a:srgbClr val="3b81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1125360"/>
            <a:ext cx="4178160" cy="1366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тратегические цели ведомст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300720" y="3141720"/>
            <a:ext cx="665280" cy="1440"/>
          </a:xfrm>
          <a:prstGeom prst="line">
            <a:avLst/>
          </a:prstGeom>
          <a:ln w="5724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300720" y="4653000"/>
            <a:ext cx="665280" cy="1440"/>
          </a:xfrm>
          <a:prstGeom prst="line">
            <a:avLst/>
          </a:prstGeom>
          <a:ln w="5724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300720" y="5805000"/>
            <a:ext cx="665280" cy="1800"/>
          </a:xfrm>
          <a:prstGeom prst="line">
            <a:avLst/>
          </a:prstGeom>
          <a:ln w="57240">
            <a:solidFill>
              <a:srgbClr val="5f5f5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0C5-A591-4166-B86B-BFD09117C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Структура и порядок подготовки  ДРОНДа Роснедр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341360"/>
            <a:ext cx="7801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Цели, задачи и показатели деятельности ведом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сходные обязательства и формирование доход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Бюджетные целевые программы и непрограммная дея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аспределение расходов по целям, задачам и программ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езультативность бюджетных расход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C29-6447-4138-9DE0-C9E95942B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Введение 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 -  основные стратегические документы, на реализацию которых направлена деятельность Роснедр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236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ы  государственной политики Российской Федерации в области  использования минерального сырья и  недропользования, утвержденные распоряжением  Правительства Российской Федерации от 21.04.2003 № 494-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программа «Минерально-сырьевые ресурсы» Федеральной целевой программы «Экология и природные ресурсы России (2002-2010 годы)», утвержденная постановлением Правительства Российской Федерации от 07.12.2001 № 860 (в части работ, выполняемых до 01.01.200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ая стратегия России на период до 2020 г., утвержденная распоряжением Правительства Российской Федерации от 28 августа 2003 г. № 1234-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лекс мер по развитию металлургической промышленности Российской Федерации на период до 2010 года, одобренный распоряжением Правительства Российской Федерации от 05.09.2002 № 1228-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ская доктрина Российской Федерации на период до 2020 г., утвержденная  Президентом Российской Федерации 27.07.2001 № ПР-1387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31.12.2003 года № 794 «О единой Государственной системе предупреждения и ликвидации чрезвычайных ситуаци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ение о федеральной системе сейсмологических наблюдений и прогноза землетрясений, утвержденное постановлением Совета Министров – Правительства РФ от 25 декабря 1993 года № 134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госрочная государственная программа изучения недр и воспроизводства минерально-сырьевой базы России на основе баланса потребления и воспроизводства минерального сырья с изменениями и дополнениями, утвержденная приказом МПР России от 15.05.2006 № 112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совместных действий МПР России, Роснедр и Росатома по формированию минерально-сырьевой базы и освоению месторождений урана на среднесрочную перспективу от 31.07.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2E0-D8C8-4A3A-AAC2-161B7FEEEA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n04</cp:lastModifiedBy>
  <dcterms:modified xsi:type="dcterms:W3CDTF">2008-07-10T05:25:18Z</dcterms:modified>
  <cp:revision>95</cp:revision>
  <dc:subject/>
  <dc:title>PowerPoint Presentation</dc:title>
</cp:coreProperties>
</file>