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8399-C60B-4CB8-B1BC-89C6E068B9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ADBD-B389-4795-AE8A-D3C51A3541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75E6-FACF-4288-9C12-ED4AEDD62B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91BF-692D-4A30-93CA-F0D6D43D75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BA06-70EE-4F96-A9E9-4C6A7EE556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6A95-8783-4F09-AAF5-760A0625E6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02D7-DD8A-4045-AFDE-E62661FCD2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1C76-AFFD-4781-ACA3-F231D0F224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AE82-CE00-4DB8-A581-F00CF9EDAB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E79C-FFF8-4218-AC6A-570EF687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D884-7EA6-49C0-A0F8-F81A5DF3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21CE-A446-4F03-BBEF-B6DAEF9B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5A7-BA4C-4656-A94A-57CD778F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EC47-BDE0-4DA0-9F2C-20704058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C72-C73E-45A3-8CB6-8D8A7FEE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7476-2F03-45BF-B3F3-CCE5102B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6234-C55B-4A79-9648-0B0999EC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EF5E-24F8-44AD-A69E-DFD125BC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6FDB-6046-4B4E-8633-9334F64A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F0E0-6DC9-420E-BCEE-187B8372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25F5-416A-4D7E-829C-9CEAFA75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A3A4-65A2-4777-82EF-C8F396F60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na4a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748720" cy="23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новные требования и методология разработки Докладов о результатах и основных направлениях деятельности бюджетных учреждений и территориальных орг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428840" y="4719600"/>
            <a:ext cx="669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Балашова Наталья Дмитриевна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Заместитель генерального директора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Центр экономического и финансового консалтинга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Семинар 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«Разработка Докладов о результатах и основных направлениях деятельности бюджетных учреждений и территориальных органов»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10 июля 2008 г.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tabli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404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216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Раздел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. Краткая характеристика действующей и (или) планируемой бюджетной целевой программ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24000" y="15080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95280" y="765000"/>
            <a:ext cx="8496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ВЦП «Повышение эффективности деятельности особо охраняемых природных территорий федерального значения (2008 – 2011 годы)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тактическая задача Минприроды России 3.10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казател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реализации программы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кращение площади неуправляемых лесных пожаров в заповедниках и национальных парках  до 15 тыс. га в год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ля видов позвоночных животных, включенных в список Красной книги Российской Федерации и сохраняемых на особо охраняемых природных территориях к общему количеству видов позвоночных животных в Красной книге Российской Федерации – 90 %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личество посетителей заповедников и национальных парков в составе организованных групп, тыс. чел. – 2 500 тыс. чел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величение площади территории и акватории, занятой государственными природными заповедниками и национальными парками до 53 млн. г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ализация программы предусматривает выполнени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ероприяти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Повышение пожарной безопасности в лесах заповедников и национальных парко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Обеспечение сохранения биологического разнообраз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Увеличение вклада ООПТ в социально-экономическое развитие за счет развития научных исследований, туризма и рекре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Развитие системы ООПТ, образование новых ООПТ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tabli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0" y="404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52200"/>
            <a:ext cx="914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Раздел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. Краткая характеристика действующей и (или) планируемой бюджетной целевой программ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(рекомендуемая таблица для заполнения)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24000" y="15080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Line 316"/>
          <p:cNvSpPr/>
          <p:nvPr/>
        </p:nvSpPr>
        <p:spPr>
          <a:xfrm>
            <a:off x="3452760" y="87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50920" y="1628640"/>
          <a:ext cx="8569080" cy="4633920"/>
        </p:xfrm>
        <a:graphic>
          <a:graphicData uri="http://schemas.openxmlformats.org/drawingml/2006/table">
            <a:tbl>
              <a:tblPr/>
              <a:tblGrid>
                <a:gridCol w="2608200"/>
                <a:gridCol w="693720"/>
                <a:gridCol w="507960"/>
                <a:gridCol w="495360"/>
                <a:gridCol w="507960"/>
                <a:gridCol w="546120"/>
                <a:gridCol w="606240"/>
                <a:gridCol w="652680"/>
                <a:gridCol w="563400"/>
                <a:gridCol w="462240"/>
                <a:gridCol w="461880"/>
                <a:gridCol w="46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ный 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текущ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+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+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 программ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казатели уровня достижения цел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tabli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0" y="404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24000" y="15080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0920" y="1006560"/>
          <a:ext cx="8569080" cy="5475240"/>
        </p:xfrm>
        <a:graphic>
          <a:graphicData uri="http://schemas.openxmlformats.org/drawingml/2006/table">
            <a:tbl>
              <a:tblPr/>
              <a:tblGrid>
                <a:gridCol w="2774880"/>
                <a:gridCol w="834840"/>
                <a:gridCol w="625680"/>
                <a:gridCol w="625320"/>
                <a:gridCol w="627120"/>
                <a:gridCol w="625680"/>
                <a:gridCol w="625320"/>
                <a:gridCol w="627120"/>
                <a:gridCol w="625320"/>
                <a:gridCol w="57780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ный пери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й пери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екущ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+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+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непрограмм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достижения цели непрограмм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достижения цели непрограмм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 на осуществление непрограмм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747"/>
          <p:cNvSpPr/>
          <p:nvPr/>
        </p:nvSpPr>
        <p:spPr>
          <a:xfrm>
            <a:off x="0" y="-34560"/>
            <a:ext cx="93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Раздел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. Характеристика непрограммной деятельности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tabli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0" y="404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214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раздел: Характеристика непрограммной деятельност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24000" y="15080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24000" y="1773360"/>
            <a:ext cx="84960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Цели непрограммной деятельности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сновные мероприят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казатели результативности непрограммной деятельност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асходы на непрограммную деятельност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и расчете расходов на осуществление вида непрограммной деятельности расходы на содержание аппарата распределяются пропорционально фонду оплаты труда сотрудников, непосредственно занятых выполнением данного вида непрограммной деятельности (по форме из таблицы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tabli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0" y="404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24000" y="15080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42920" y="1857240"/>
          <a:ext cx="8858160" cy="2519640"/>
        </p:xfrm>
        <a:graphic>
          <a:graphicData uri="http://schemas.openxmlformats.org/drawingml/2006/table">
            <a:tbl>
              <a:tblPr/>
              <a:tblGrid>
                <a:gridCol w="1357200"/>
                <a:gridCol w="473040"/>
                <a:gridCol w="505080"/>
                <a:gridCol w="676080"/>
                <a:gridCol w="824040"/>
                <a:gridCol w="506160"/>
                <a:gridCol w="505080"/>
                <a:gridCol w="676080"/>
                <a:gridCol w="824040"/>
                <a:gridCol w="504720"/>
                <a:gridCol w="506520"/>
                <a:gridCol w="674640"/>
                <a:gridCol w="825480"/>
              </a:tblGrid>
              <a:tr h="381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рудник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рудник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314"/>
          <p:cNvSpPr/>
          <p:nvPr/>
        </p:nvSpPr>
        <p:spPr>
          <a:xfrm>
            <a:off x="714240" y="11430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Таблица  – Сведения о занятости персонала (в %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214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раздел: Характеристика непрограммной деятельност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TextBox 70"/>
          <p:cNvSpPr/>
          <p:nvPr/>
        </p:nvSpPr>
        <p:spPr>
          <a:xfrm>
            <a:off x="571680" y="4714920"/>
            <a:ext cx="742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 – программа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НП – непрограммная деятельность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tabli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0" y="404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50920" y="-14040"/>
            <a:ext cx="878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роки подготовки ДРОНД терорганов и подведомственных организаци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Минприроды Росс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Text Box 70"/>
          <p:cNvSpPr/>
          <p:nvPr/>
        </p:nvSpPr>
        <p:spPr>
          <a:xfrm>
            <a:off x="395280" y="130500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Доклад МПР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России как СБП разрабатывается ежегодно на очередные три года до 1 апреля текущего года (первая часть) и 15 июля текущего года (полная версия), уточненная версия Доклада разрабатывается до 1 ноября текущего год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Доклады ФС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разрабатываются ежегодно на очередные три года до 20 марта текущего года (первая часть) и 20 июня текущего года (полная версия), уточненные версии Докладов ФСА разрабатываются до 1 ноября текущего год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Доклады терорганов и подведомственных организаций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в 2008 г. разрабатываются до 15 октября, утверждаются до начала 2009 года (декабрь 2008 г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tabli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0" y="404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95280" y="-1404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Рассмотрение ДРОНД терорганов и подведомственных организаций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Минприроды Росси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95280" y="130500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В соответствии с Приказом Минприроды России №351 от 29.12.2007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Доклады терорганов ФСА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едставляются в центральный аппарат соответствующих ФС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Доклады ООПТ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представляются в Департамент государственной политики в сфере охраны окружающей среды и экологической безопасности Минприроды Росс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na4a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shablon_tex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7093080" y="6229440"/>
            <a:ext cx="15843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CEFC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Line 4"/>
          <p:cNvSpPr/>
          <p:nvPr/>
        </p:nvSpPr>
        <p:spPr>
          <a:xfrm>
            <a:off x="8675640" y="6524640"/>
            <a:ext cx="289080" cy="0"/>
          </a:xfrm>
          <a:prstGeom prst="line">
            <a:avLst/>
          </a:prstGeom>
          <a:ln w="1778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26920" y="692280"/>
          <a:ext cx="7561440" cy="5329080"/>
        </p:xfrm>
        <a:graphic>
          <a:graphicData uri="http://schemas.openxmlformats.org/drawingml/2006/table">
            <a:tbl>
              <a:tblPr/>
              <a:tblGrid>
                <a:gridCol w="1152720"/>
                <a:gridCol w="1152360"/>
                <a:gridCol w="1986120"/>
                <a:gridCol w="1901880"/>
                <a:gridCol w="1368360"/>
              </a:tblGrid>
              <a:tr h="26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ханизм управления по результата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управ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управ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итуциональ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уровнев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ведомст-венное планир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ДРОНД, Докладов структурных подразделений, территориальных органов, подведомственных организац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целевых прогнозных показателей и их значений для субъектов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ндивидуальных показателей результативности деятельности и планов рабо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едение структуры в соответствие с поставленными целя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е структуры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е должностных регламентов и контрак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т результативности деятель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т результативности  структурных подразделений, подведомственных организац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т результатив-ности в рамках мониторинга исполнения субъектами РФ переданных полномоч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текущей оценки результатов деятельности сотрудни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енни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финансово-хозяйственной деятельности территориальных органов и подведомственных организац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расходования субвенций на исполнение переданных полномоч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исполнительской дисципли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ебные провер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ентное распределение сред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и контроль (оценк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ентное распределение средств между структурными подразделениям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мирование по результатам деятель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252"/>
          <p:cNvSpPr/>
          <p:nvPr/>
        </p:nvSpPr>
        <p:spPr>
          <a:xfrm>
            <a:off x="971640" y="10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Механизмы управления по результата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tabli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0" y="404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767160" y="188280"/>
            <a:ext cx="75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Методические рекоменд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50920" y="1341360"/>
            <a:ext cx="864216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Цел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разработки Докладов терорганов и подведомственных учреждений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повышение ответственности за достижение стратегических целей и тактических задач Минприроды России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еспечение своевременной и качественной реализации бюджетных целевых программ;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вышение эффективности и результативности деятельности терорганов и подведомственных учреждений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тимулирование эффективного внутриведомственного взаимодействи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Непосредственной задачей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разработки Докладов терорганов и подведомственных учреждений является обеспечение руководства Минприроды России информацией, необходимой для формирования системы мер по достижению планируемых результатов проведения государственной политики в сфере природопользования и охраны окружающей среды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tabli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0" y="404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767160" y="188280"/>
            <a:ext cx="75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Методические рекоменд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50920" y="1341360"/>
            <a:ext cx="8642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оклады терорганов и подведомственных организаций в системе Минприроды России состоят из следующих разделов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1.  Задачи и показатели деятельности терорганов и подведомственных организаци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2.  Характеристика программной деятельности терорганов и подведомственных организаци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3.  Характеристика непрограммной деятельности терорганов и подведомственных организаци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hablon_text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7093080" y="6229440"/>
            <a:ext cx="15843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CEFC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Line 4"/>
          <p:cNvSpPr/>
          <p:nvPr/>
        </p:nvSpPr>
        <p:spPr>
          <a:xfrm>
            <a:off x="8675640" y="6524640"/>
            <a:ext cx="289080" cy="0"/>
          </a:xfrm>
          <a:prstGeom prst="line">
            <a:avLst/>
          </a:prstGeom>
          <a:ln w="1778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500280" y="0"/>
            <a:ext cx="22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Раздел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rganization Chart 8"/>
          <p:cNvGrpSpPr/>
          <p:nvPr/>
        </p:nvGrpSpPr>
        <p:grpSpPr>
          <a:xfrm>
            <a:off x="785880" y="785880"/>
            <a:ext cx="7701840" cy="4824000"/>
            <a:chOff x="785880" y="785880"/>
            <a:chExt cx="7701840" cy="4824000"/>
          </a:xfrm>
        </p:grpSpPr>
        <p:cxnSp>
          <p:nvCxnSpPr>
            <p:cNvPr id="69" name="_s1028"/>
            <p:cNvCxnSpPr>
              <a:stCxn id="70" idx="0"/>
              <a:endCxn id="71" idx="3"/>
            </p:cNvCxnSpPr>
            <p:nvPr/>
          </p:nvCxnSpPr>
          <p:spPr>
            <a:xfrm rot="10800000">
              <a:off x="1940400" y="2556720"/>
              <a:ext cx="385560" cy="2676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2" name="_s1029"/>
            <p:cNvCxnSpPr>
              <a:stCxn id="73" idx="0"/>
              <a:endCxn id="71" idx="2"/>
            </p:cNvCxnSpPr>
            <p:nvPr/>
          </p:nvCxnSpPr>
          <p:spPr>
            <a:xfrm rot="10800000">
              <a:off x="1940400" y="2556720"/>
              <a:ext cx="385560" cy="1658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4" name="_s1030"/>
            <p:cNvCxnSpPr>
              <a:stCxn id="75" idx="0"/>
              <a:endCxn id="71" idx="1"/>
            </p:cNvCxnSpPr>
            <p:nvPr/>
          </p:nvCxnSpPr>
          <p:spPr>
            <a:xfrm rot="10800000">
              <a:off x="1940400" y="2556720"/>
              <a:ext cx="385560" cy="64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" name="_s1031"/>
            <p:cNvCxnSpPr>
              <a:stCxn id="77" idx="0"/>
              <a:endCxn id="78" idx="2"/>
            </p:cNvCxnSpPr>
            <p:nvPr/>
          </p:nvCxnSpPr>
          <p:spPr>
            <a:xfrm flipV="1" rot="16200000">
              <a:off x="5853960" y="324720"/>
              <a:ext cx="264240" cy="2692800"/>
            </a:xfrm>
            <a:prstGeom prst="bentConnector3">
              <a:avLst>
                <a:gd name="adj1" fmla="val 4324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" name="_s1032"/>
            <p:cNvCxnSpPr>
              <a:stCxn id="80" idx="0"/>
              <a:endCxn id="78" idx="1"/>
            </p:cNvCxnSpPr>
            <p:nvPr/>
          </p:nvCxnSpPr>
          <p:spPr>
            <a:xfrm flipH="1" flipV="1" rot="5400000">
              <a:off x="4506120" y="1669680"/>
              <a:ext cx="264240" cy="3600"/>
            </a:xfrm>
            <a:prstGeom prst="bentConnector3">
              <a:avLst>
                <a:gd name="adj1" fmla="val 4324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" name="_s1033"/>
            <p:cNvCxnSpPr>
              <a:stCxn id="71" idx="0"/>
              <a:endCxn id="78" idx="0"/>
            </p:cNvCxnSpPr>
            <p:nvPr/>
          </p:nvCxnSpPr>
          <p:spPr>
            <a:xfrm flipH="1" flipV="1" rot="5400000">
              <a:off x="3158280" y="321840"/>
              <a:ext cx="264240" cy="2699280"/>
            </a:xfrm>
            <a:prstGeom prst="bentConnector3">
              <a:avLst>
                <a:gd name="adj1" fmla="val 4324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8" name="_s1034"/>
            <p:cNvSpPr/>
            <p:nvPr/>
          </p:nvSpPr>
          <p:spPr>
            <a:xfrm>
              <a:off x="2134080" y="785880"/>
              <a:ext cx="5008680" cy="753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тратегическая цель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" name="_s1035"/>
            <p:cNvSpPr/>
            <p:nvPr/>
          </p:nvSpPr>
          <p:spPr>
            <a:xfrm>
              <a:off x="785880" y="1803240"/>
              <a:ext cx="2310480" cy="753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Цель 1.</a:t>
              </a:r>
              <a:endParaRPr b="0" lang="en-US" sz="23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0" name="_s1036"/>
            <p:cNvSpPr/>
            <p:nvPr/>
          </p:nvSpPr>
          <p:spPr>
            <a:xfrm>
              <a:off x="3481560" y="1803240"/>
              <a:ext cx="2310480" cy="753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Цель 2.</a:t>
              </a:r>
              <a:endParaRPr b="0" lang="en-US" sz="23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" name="_s1037"/>
            <p:cNvSpPr/>
            <p:nvPr/>
          </p:nvSpPr>
          <p:spPr>
            <a:xfrm>
              <a:off x="6177240" y="1803240"/>
              <a:ext cx="2310480" cy="753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Цель 3.</a:t>
              </a:r>
              <a:endParaRPr b="0" lang="en-US" sz="23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5" name="_s1038"/>
            <p:cNvSpPr/>
            <p:nvPr/>
          </p:nvSpPr>
          <p:spPr>
            <a:xfrm>
              <a:off x="2326320" y="2820960"/>
              <a:ext cx="2310480" cy="753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Задача 1.</a:t>
              </a:r>
              <a:endParaRPr b="0" lang="en-US" sz="23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" name="_s1039"/>
            <p:cNvSpPr/>
            <p:nvPr/>
          </p:nvSpPr>
          <p:spPr>
            <a:xfrm>
              <a:off x="2326320" y="3838680"/>
              <a:ext cx="2310480" cy="753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Задача 2.</a:t>
              </a:r>
              <a:endParaRPr b="0" lang="en-US" sz="23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" name="_s1040"/>
            <p:cNvSpPr/>
            <p:nvPr/>
          </p:nvSpPr>
          <p:spPr>
            <a:xfrm>
              <a:off x="2326320" y="4856400"/>
              <a:ext cx="2310480" cy="753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Задача 3.</a:t>
              </a:r>
              <a:endParaRPr b="0" lang="en-US" sz="23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shablon_tex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7093080" y="6229440"/>
            <a:ext cx="15843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CEFC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Line 4"/>
          <p:cNvSpPr/>
          <p:nvPr/>
        </p:nvSpPr>
        <p:spPr>
          <a:xfrm>
            <a:off x="8675640" y="6524640"/>
            <a:ext cx="289080" cy="0"/>
          </a:xfrm>
          <a:prstGeom prst="line">
            <a:avLst/>
          </a:prstGeom>
          <a:ln w="1778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68360" y="18900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Раздел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: Задачи и показатели деятельно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900000" y="692280"/>
            <a:ext cx="7489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и ФС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жны способствовать достижению (вносить вклад в достижение одной или нескольких) стратегических целей СБП и соответствовать тактическим задачам СБП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природы России : Обеспечение воспроизводства (восстановления) природных ресурсов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 Роснедра = тактическая задача Минприроды Росс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ение воспроизводства минерально-сырьевой баз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ение геологической изученности территории Российской Федерации и ее континентального шельфа, получение геологической информации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и территориальных органо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ответствую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м соответствующего ФС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hablon_tex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7093080" y="6229440"/>
            <a:ext cx="15843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CEFC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Line 4"/>
          <p:cNvSpPr/>
          <p:nvPr/>
        </p:nvSpPr>
        <p:spPr>
          <a:xfrm>
            <a:off x="8675640" y="6524640"/>
            <a:ext cx="289080" cy="0"/>
          </a:xfrm>
          <a:prstGeom prst="line">
            <a:avLst/>
          </a:prstGeom>
          <a:ln w="1778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68360" y="18900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Раздел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: Задачи и показатели деятельно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900000" y="692280"/>
            <a:ext cx="7489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дведомственные учрежден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существляют свою деятельность в рамках реализации тактических задач курирующих ведомств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ктическая задача Минприроды России: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еспечение сохранности природных систем за счет развития и совершенствования  системы ООПТ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дведомственные учреждения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существляющие деятельность в рамках реализации задачи: особо охраняемые природные территории (ФГУ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hablon_text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7093080" y="6229440"/>
            <a:ext cx="15843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CEFC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Line 4"/>
          <p:cNvSpPr/>
          <p:nvPr/>
        </p:nvSpPr>
        <p:spPr>
          <a:xfrm>
            <a:off x="8675640" y="6524640"/>
            <a:ext cx="289080" cy="0"/>
          </a:xfrm>
          <a:prstGeom prst="line">
            <a:avLst/>
          </a:prstGeom>
          <a:ln w="1778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01680" y="0"/>
            <a:ext cx="854064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Рекомендации при разработке показател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826920" y="981000"/>
            <a:ext cx="74170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55640" y="980640"/>
            <a:ext cx="7129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Минимизация количества показа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Использование  показателей конечных общественно значимых результа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Адеква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Объекти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Достовер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Однознач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Экономич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Сопостави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Своевременность и регуляр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Уника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shablon_tex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7093080" y="6229440"/>
            <a:ext cx="15843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CEFC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8675640" y="6524640"/>
            <a:ext cx="289080" cy="0"/>
          </a:xfrm>
          <a:prstGeom prst="line">
            <a:avLst/>
          </a:prstGeom>
          <a:ln w="1778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071720" y="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Раздел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: Задачи и показатели деятельно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755640" y="765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Рекомендуемая форма представления показателе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57160" y="1413000"/>
          <a:ext cx="7500960" cy="3949560"/>
        </p:xfrm>
        <a:graphic>
          <a:graphicData uri="http://schemas.openxmlformats.org/drawingml/2006/table">
            <a:tbl>
              <a:tblPr/>
              <a:tblGrid>
                <a:gridCol w="1433520"/>
                <a:gridCol w="803520"/>
                <a:gridCol w="519120"/>
                <a:gridCol w="566640"/>
                <a:gridCol w="520560"/>
                <a:gridCol w="712800"/>
                <a:gridCol w="534960"/>
                <a:gridCol w="505080"/>
                <a:gridCol w="520560"/>
                <a:gridCol w="1384200"/>
              </a:tblGrid>
              <a:tr h="293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диница измере-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четны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овы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левое зна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кущий год (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+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+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+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32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дача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ь 1.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ь 1.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дача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ь 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ь 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07:53:00Z</dcterms:created>
  <dc:creator>Офис ЦЭФК</dc:creator>
  <dc:description/>
  <dc:language>en-US</dc:language>
  <cp:lastModifiedBy>Балашова</cp:lastModifiedBy>
  <dcterms:modified xsi:type="dcterms:W3CDTF">2008-07-09T06:27:03Z</dcterms:modified>
  <cp:revision>70</cp:revision>
  <dc:subject/>
  <dc:title>Слайд 1</dc:title>
</cp:coreProperties>
</file>