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CD45-2281-4C7E-9642-66CD7F401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751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83840" y="3684960"/>
            <a:ext cx="751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F161-FBD0-49E0-83E3-53404294F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8384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656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A20F-2A3B-4124-BEA2-4AC51A386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25800" y="132084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68120" y="132084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83840" y="368496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25800" y="368496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68120" y="368496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03AA-E4E0-489D-9133-F47A759FE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83840" y="1320840"/>
            <a:ext cx="7518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297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751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665080" y="-25920"/>
            <a:ext cx="631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297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8384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83840" y="1320840"/>
            <a:ext cx="7518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2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00D8-D148-4D52-BEED-7907ABF29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3656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83840" y="3684960"/>
            <a:ext cx="751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751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83840" y="3684960"/>
            <a:ext cx="751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8384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3656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25800" y="132084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68120" y="132084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83840" y="368496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25800" y="368496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68120" y="3684960"/>
            <a:ext cx="242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751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9D8D-92DC-4406-81F3-0AFCF75C3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B8DE-E7D8-47E6-83B8-5BFE869A4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6455-4CB3-4676-8D8B-8ED0186A1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5080" y="-25920"/>
            <a:ext cx="631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2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92B0-E13E-4835-A9D1-50E1FEE66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8384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2D78-2EE5-4D84-97B1-26EDBB700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6560" y="368496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77F9-75B5-485F-BAC7-351F8553E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8384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6560" y="1320840"/>
            <a:ext cx="366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83840" y="3684960"/>
            <a:ext cx="751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D776-9260-4D5B-8269-27E73AA8C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5080" y="-25920"/>
            <a:ext cx="63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83840" y="1320840"/>
            <a:ext cx="751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587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48B1-FCAF-4D17-B0AC-5E499A4D6A6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25560" y="5479920"/>
            <a:ext cx="746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Кисляков Евгений Юрьевич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Начальник отдела методологии целевого планирования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Департамента бюджетирования по результатам и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сводного финансового баланса Минэкономразвития Росс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9720" y="2398680"/>
            <a:ext cx="784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Доклады о результатах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и основных направлениях деятельности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Book Antiqua"/>
              </a:rPr>
              <a:t>субъектов бюджетного план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0ADD-FD45-4F26-8B75-32E705EB9D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ятый раздел Доклада СБ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560" y="1884240"/>
            <a:ext cx="7851960" cy="111924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Анализ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и обоснование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заимосвязи объем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(структуры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расходов и результатов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деятельности субъекта бюджетного планирования в отчетном и плановом перио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230640"/>
            <a:ext cx="7905600" cy="83160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Количественную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оценку результативности бюджетных расходов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и тенденций ее измен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28960" y="620064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1040" y="4317840"/>
            <a:ext cx="7932600" cy="104148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Меры, направленные на повышение результативности бюджетных расх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800" y="101268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ятый раздел содерж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711F-BB46-4CB7-A511-E36D8A09E5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20640" y="2475000"/>
            <a:ext cx="801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B3BB-9263-40B8-B61F-68C3FDF15A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080" y="1129680"/>
            <a:ext cx="855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Повышение целевой ориентации деятельности федеральных органов исполнительной власти на решение приоритетных задач социально-экономическ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овышение согласованности деятельности органов исполнительной власти при реализации функций и решении задач государственного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Повышение эффективности использования ресурсов, необходимых для достижения поставленных целей социально-экономическ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Обеспечение контроля за реализацией запланированных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ные задачи Докладов СБ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23DD-32CA-41DC-BA04-94247DE383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8520" y="1562040"/>
            <a:ext cx="2682720" cy="160200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тратегические документы, определяющие политику в данной сфе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2920" y="3765600"/>
            <a:ext cx="2668320" cy="10317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посредственная деятельность субъекта бюджетного план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2920" y="5483160"/>
            <a:ext cx="2668320" cy="798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Бюджетные ограни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00680" y="2230560"/>
            <a:ext cx="4292280" cy="3902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00680" y="1440000"/>
            <a:ext cx="4292280" cy="799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Доклад о результатах и основных направлениях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7040" y="2543040"/>
            <a:ext cx="1685880" cy="571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Стратегическ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07040" y="3522600"/>
            <a:ext cx="1685880" cy="571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Тактические зада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07040" y="4622760"/>
            <a:ext cx="1685880" cy="57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Бюджетные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53360" y="2543040"/>
            <a:ext cx="1377720" cy="571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Показатели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53360" y="3522600"/>
            <a:ext cx="1377720" cy="571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Показатели зада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53360" y="4622760"/>
            <a:ext cx="1377720" cy="57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Показатели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1240" y="2297160"/>
            <a:ext cx="1225800" cy="458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3480" y="3154320"/>
            <a:ext cx="1800" cy="34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81240" y="4870440"/>
            <a:ext cx="1225800" cy="798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080880" y="3765600"/>
            <a:ext cx="1225800" cy="460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3480" y="4135320"/>
            <a:ext cx="1800" cy="455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54400" y="4502160"/>
            <a:ext cx="3830760" cy="799920"/>
          </a:xfrm>
          <a:prstGeom prst="rect">
            <a:avLst/>
          </a:prstGeom>
          <a:noFill/>
          <a:ln w="19080">
            <a:solidFill>
              <a:srgbClr val="ffcc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4400" y="2417760"/>
            <a:ext cx="3832200" cy="80316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4400" y="3398760"/>
            <a:ext cx="3832200" cy="8017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81240" y="4378320"/>
            <a:ext cx="1225800" cy="46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ка формирования Доклада СБ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C636-FB8A-40AE-8A77-B4093917EA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заимосвязь Докладов структурных подразделений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окладов СБП и Сводного доклада Правительства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4800" y="2176560"/>
            <a:ext cx="2016000" cy="1942920"/>
          </a:xfrm>
          <a:prstGeom prst="flowChartDocumen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водный доклад Правитель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6560" y="1663560"/>
            <a:ext cx="2133360" cy="32068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оклады  СБ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35560" y="1619280"/>
            <a:ext cx="2706840" cy="3206880"/>
          </a:xfrm>
          <a:prstGeom prst="flowChartMultidocument">
            <a:avLst/>
          </a:prstGeom>
          <a:solidFill>
            <a:srgbClr val="f0f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оклады  с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труктурных подразделений, территориальных орг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854600"/>
            <a:ext cx="3965400" cy="1039320"/>
          </a:xfrm>
          <a:prstGeom prst="leftArrow">
            <a:avLst>
              <a:gd name="adj1" fmla="val 50000"/>
              <a:gd name="adj2" fmla="val 8506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мплексы мероприятий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начения показат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7800" y="912960"/>
            <a:ext cx="3765600" cy="749160"/>
          </a:xfrm>
          <a:prstGeom prst="rightArrow">
            <a:avLst>
              <a:gd name="adj1" fmla="val 44917"/>
              <a:gd name="adj2" fmla="val 1049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ли,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33840" y="2557440"/>
            <a:ext cx="554040" cy="243000"/>
          </a:xfrm>
          <a:prstGeom prst="rightArrow">
            <a:avLst>
              <a:gd name="adj1" fmla="val 50000"/>
              <a:gd name="adj2" fmla="val 57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26080" y="2543040"/>
            <a:ext cx="593640" cy="282600"/>
          </a:xfrm>
          <a:prstGeom prst="rightArrow">
            <a:avLst>
              <a:gd name="adj1" fmla="val 50000"/>
              <a:gd name="adj2" fmla="val 5251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3600" y="3219480"/>
            <a:ext cx="525240" cy="263520"/>
          </a:xfrm>
          <a:prstGeom prst="leftArrow">
            <a:avLst>
              <a:gd name="adj1" fmla="val 50000"/>
              <a:gd name="adj2" fmla="val 4982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7920" y="3271680"/>
            <a:ext cx="525600" cy="263520"/>
          </a:xfrm>
          <a:prstGeom prst="leftArrow">
            <a:avLst>
              <a:gd name="adj1" fmla="val 50000"/>
              <a:gd name="adj2" fmla="val 498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5F97-FFC8-49B4-9E3E-423804AF5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2600" y="1187280"/>
            <a:ext cx="822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дел 1. Цели, задачи и показатели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дел 2. Расходные обязательства и формирование дох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дел 3. Бюджетные целевые программы и непрограммная 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дел 4. Распределение расходов по целям, задачам и программ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дел 5. Результативность бюджетных расх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5080" y="407520"/>
            <a:ext cx="63133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азделы Доклада СБП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676600" y="184140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33760" y="506736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98640" y="3994200"/>
            <a:ext cx="338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288432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EE18-FC91-46BC-AC68-9AC3C04CA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вый раздел Доклада СБ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560" y="1884240"/>
            <a:ext cx="7894800" cy="13161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тратегические цели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субъекта бюджетного планирования, подведомственных ему федеральных служб и федеральных агентств, организ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880" y="3427560"/>
            <a:ext cx="7905600" cy="83160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Тактические задачи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 обеспечивающие достижение соответствующих ц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28960" y="620064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2320" y="4459320"/>
            <a:ext cx="7932960" cy="14907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Значения основных показателей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деятельности субъекта бюджетного планирования, характеризующих достижение (реализацию) каждой цели и задачи в отчетном и плановом периодах (Приложение N 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800" y="101268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ервый раздел содерж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E73F-F54A-4216-A645-002EF3EE88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торой раздел Доклада СБ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1658880"/>
            <a:ext cx="7894800" cy="13161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оценку объема и структуры исполняемых расходных обязательств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субъекта бюджетного план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5480" y="3244680"/>
            <a:ext cx="7905960" cy="8319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оценку объема и структуры платеже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в федеральный бюдж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28960" y="620064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444920"/>
            <a:ext cx="7961400" cy="132084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Данные об исполняемых расходных обязательствах представляются по форме согласно Приложению N 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Данные по платежам в федеральный бюджет представляются по форме согласно Приложению 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7800" y="101268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торой раздел содерж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A1D4-D7CB-469C-BD52-F325E70A51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тий раздел Доклада СБ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560" y="1884240"/>
            <a:ext cx="7935840" cy="182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боснование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йствующих и (или) планируемых бюджетных целевых программ, а также планируемой непрограммной деятельности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направленных на достижение целей и задач субъекта бюджетного пла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28960" y="620064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35320"/>
            <a:ext cx="7932960" cy="14907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Краткая характеристика каждой действующей и (или) планируемой бюджетной целевой программы и краткая характеристика непрограммной деятельности субъекта бюджетного планирования приводятся по форме согласно Приложению N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800" y="101268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Третий раздел содерж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DEF9-B8CE-4F2D-A9EB-84356DDA1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22520" y="10152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етвертый раздел Доклада СБ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120" y="1757520"/>
            <a:ext cx="7964280" cy="131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Распределени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отчетных и планируемых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расходов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субъекта бюджетного планирования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по целям, задачам и бюджетным целевыми программам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6640" y="3343320"/>
            <a:ext cx="7975800" cy="102708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Пояснени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(обоснование) сложившейся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труктуры расходов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Характеристику тенденций ее изменения в отчетном и плановом перио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28960" y="6200640"/>
            <a:ext cx="338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4040" y="4614840"/>
            <a:ext cx="8016840" cy="127944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Распределение отчетных и планируемых расходов субъекта бюджетного планирования по целям, задачам и бюджетным целевыми программам приводится по форме согласно Приложению N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800" y="1012680"/>
            <a:ext cx="6434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Четвертый раздел содерж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6C73-A115-4E5E-BCB8-50DBC44BFF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1:32:32Z</dcterms:created>
  <dc:creator>А.А. Тернавский</dc:creator>
  <dc:description/>
  <dc:language>en-US</dc:language>
  <cp:lastModifiedBy>User</cp:lastModifiedBy>
  <dcterms:modified xsi:type="dcterms:W3CDTF">2008-07-09T22:45:16Z</dcterms:modified>
  <cp:revision>440</cp:revision>
  <dc:subject/>
  <dc:title>Презентация к совещанию по инвестиционному фонду</dc:title>
</cp:coreProperties>
</file>