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6000" y="80640"/>
            <a:ext cx="8820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6000" y="80640"/>
            <a:ext cx="8820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6000" y="80640"/>
            <a:ext cx="8820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6000" y="80640"/>
            <a:ext cx="8820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6000" y="80640"/>
            <a:ext cx="8820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6000" y="80640"/>
            <a:ext cx="8820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6000" y="80640"/>
            <a:ext cx="8820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6000" y="80640"/>
            <a:ext cx="88200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6000" y="80640"/>
            <a:ext cx="8820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16000" y="80640"/>
            <a:ext cx="8820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6000" y="80640"/>
            <a:ext cx="8820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6000" y="80640"/>
            <a:ext cx="8820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6000" y="80640"/>
            <a:ext cx="8820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6000" y="80640"/>
            <a:ext cx="8820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6000" y="80640"/>
            <a:ext cx="8820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00" y="80640"/>
            <a:ext cx="8820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00" y="80640"/>
            <a:ext cx="8820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6000" y="80640"/>
            <a:ext cx="8820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16000" y="80640"/>
            <a:ext cx="88200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00" y="80640"/>
            <a:ext cx="8820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6000" y="80640"/>
            <a:ext cx="8820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6000" y="80640"/>
            <a:ext cx="8820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00" y="80640"/>
            <a:ext cx="8820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273800" y="5985000"/>
            <a:ext cx="17622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3AB2-8FA2-4570-AD19-A1682FE10560}" type="slidenum">
              <a:rPr b="1" lang="en-US" sz="4400" spc="-1" strike="noStrike">
                <a:solidFill>
                  <a:srgbClr val="808080"/>
                </a:solidFill>
                <a:latin typeface="Benguiat Bk BT"/>
                <a:ea typeface="바탕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>
            <a:grayscl/>
            <a:lum bright="-4000"/>
          </a:blip>
          <a:srcRect l="0" t="9606" r="0" b="17938"/>
          <a:stretch/>
        </p:blipFill>
        <p:spPr>
          <a:xfrm>
            <a:off x="0" y="1440"/>
            <a:ext cx="9144000" cy="6882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2457000"/>
            <a:ext cx="8424720" cy="19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Доклад о результатах и основных направлениях деятельности Минприроды России 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на 2009-2011 год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021360"/>
            <a:ext cx="3743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Семин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10 июля 2008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McK Date"/>
          <p:cNvSpPr/>
          <p:nvPr/>
        </p:nvSpPr>
        <p:spPr>
          <a:xfrm>
            <a:off x="1332000" y="260280"/>
            <a:ext cx="6121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 Black"/>
              </a:rPr>
              <a:t>Министерство природных ресурсов и экологии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792000" cy="701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319640" y="5734080"/>
            <a:ext cx="4824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Начальник отдела аудита результативности бюджетных расходов Департамента экономики и финан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О.В. Александ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655640" y="1065240"/>
            <a:ext cx="5940720" cy="46476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808080"/>
                </a:solidFill>
                <a:latin typeface="Arial Black"/>
              </a:rPr>
              <a:t>ОСНОВНЫЕ МЕРОПРИЯТИЯ ПО ДОСТИЖЕНИЮ ЦЕЛИ И ВЫПОЛНЕНИЮ ТАКТИЧЕСКИХ ЗАДАЧ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24000" y="1808280"/>
          <a:ext cx="8316720" cy="3744360"/>
        </p:xfrm>
        <a:graphic>
          <a:graphicData uri="http://schemas.openxmlformats.org/drawingml/2006/table">
            <a:tbl>
              <a:tblPr/>
              <a:tblGrid>
                <a:gridCol w="8316720"/>
              </a:tblGrid>
              <a:tr h="374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Снижение ущерба от негативных геологических процессов и явл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иторинг опасных эндогенных геологических процес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иторинг и охрана геологической сре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6600"/>
                          </a:solidFill>
                          <a:uFillTx/>
                          <a:latin typeface="Arial"/>
                        </a:rPr>
                        <a:t>Значимые результаты: </a:t>
                      </a: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Для прогноза эндогенных геологических процессов и землетрясений проведена оценка геологической среды, пробурена 91 наблюдательная скважина на полигонах Южного, Сибирского и Дальневосточного федеральных округов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6600"/>
                          </a:solidFill>
                          <a:uFillTx/>
                          <a:latin typeface="Arial"/>
                        </a:rPr>
                        <a:t>Приоритеты на 2009-2011 годы: </a:t>
                      </a: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мониторинг опасных геологических процессов на Кавказе, Алтае и Саянах, Сахалине, Камчат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108000" y="0"/>
            <a:ext cx="899640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Цель 3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спечение защищенности окружающей природной среды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населения и объектов эконом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727280" y="892080"/>
            <a:ext cx="6049800" cy="46476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808080"/>
                </a:solidFill>
                <a:latin typeface="Arial Black"/>
              </a:rPr>
              <a:t>ОСНОВНЫЕ МЕРОПРИЯТИЯ ПО ДОСТИЖЕНИЮ ЦЕЛИ И ВЫПОЛНЕНИЮ ТАКТИЧЕСКИХ ЗАДАЧ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87280" y="1484280"/>
          <a:ext cx="8640720" cy="504036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50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Обеспечение сохранности природных систем за счет развития и совершенствования системы особоохраняемых природных территорий (ООПТ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Обеспечение пожарной безопасности в лесах заповедников и национальных парк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Разработка Стратегии развития особо охраняемых природных территорий (ООПТ), включая Перспективную схему территориального планирования ООПТ в Российской Федераци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оздание новых ООПТ (распоряжения Правительства Российской Федерации от 23 мая 2001 г. № 725-р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6600"/>
                          </a:solidFill>
                          <a:uFillTx/>
                          <a:latin typeface="Arial"/>
                        </a:rPr>
                        <a:t>Значимые результаты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озданы заповедники и национальные парки: ГПЗ «Кологривский лес», НП «Калевальский», НП «Зов тигра», НП «Удэгейская легенда», НП «Бузулукский бор» и д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6600"/>
                          </a:solidFill>
                          <a:uFillTx/>
                          <a:latin typeface="Arial"/>
                        </a:rPr>
                        <a:t>Приоритеты на 2009-2011 годы: </a:t>
                      </a: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оздание новых ООПТ: НП "Сенгилеевские горы», НП «Шантарские острова», заповедник "Сайлюгемский"; заповедник "Эльтонский»</a:t>
                      </a:r>
                      <a:r>
                        <a:rPr b="1" lang="en-US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:</a:t>
                      </a: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заповедник "Южнотаежный пихтовый«, заповедник "Шайтан-тау», заповедник "Ставропольский лесостепной», НП "Придеснянский", заповедник «Барабинский», НП «Заволжье», заповедник "Утриш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108000" y="0"/>
            <a:ext cx="899640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Цель 3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спечение защищенности окружающей природной среды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населения и объектов эконом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619280" y="549360"/>
            <a:ext cx="5869080" cy="46476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808080"/>
                </a:solidFill>
                <a:latin typeface="Arial Black"/>
              </a:rPr>
              <a:t>ОСНОВНЫЕ МЕРОПРИЯТИЯ ПО ДОСТИЖЕНИЮ ЦЕЛИ И ВЫПОЛНЕНИЮ ТАКТИЧЕСКИХ ЗАДАЧ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08000" y="1015920"/>
          <a:ext cx="8964720" cy="5761080"/>
        </p:xfrm>
        <a:graphic>
          <a:graphicData uri="http://schemas.openxmlformats.org/drawingml/2006/table">
            <a:tbl>
              <a:tblPr/>
              <a:tblGrid>
                <a:gridCol w="8964720"/>
              </a:tblGrid>
              <a:tr h="5761080"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Обеспечение сохранения и восстановления редких и находящихся под угрозой исчезновения объектов животного и растительного ми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учные исследования в области охраны окружающей среды и функционирования особо охраняемых природных территорий,  охраны, регулирования использования и воспроизводства объектов животного и растительного мира и среды их обитания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учные исследования в области охраны и регулирования использования водных биологических ресурсов и обеспечение охраны морской среды внутренних морских вод, территориального моря, исключительной экономической зоны и континентального шельфа Российской Федераци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ановление нормативов предельно допустимого вредного воздействия, такс и оценки ущерба окружающей среде, государственной экологической экспертизы и организации ведения Красных кни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6600"/>
                          </a:solidFill>
                          <a:uFillTx/>
                          <a:latin typeface="Arial"/>
                        </a:rPr>
                        <a:t>Значимые результаты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Обеспечена стабилизация численности амурских тиг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Возвращены в сферу хозяйственного использования (выведены из Красной книги Российской Федерации) 3 объекта  животного мира: кутум, популяция озерного лосося реки Шуя (Республика Карелия), популяция сурка-торбагана в пределах Республики Бур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6600"/>
                          </a:solidFill>
                          <a:uFillTx/>
                          <a:latin typeface="Arial"/>
                        </a:rPr>
                        <a:t>Приоритеты на 2009-2011 годы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Увеличение численности амурских тигров, возвращение в сферу хозяйственного использования новых объектов животного мира, ранее числившихся в Красной книг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108000" y="0"/>
            <a:ext cx="8996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Цель 3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спечение защищенности окружающей природной среды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населения и объектов эконом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692360" y="892080"/>
            <a:ext cx="5941800" cy="46476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808080"/>
                </a:solidFill>
                <a:latin typeface="Arial Black"/>
              </a:rPr>
              <a:t>ОСНОВНЫЕ МЕРОПРИЯТИЯ ПО ДОСТИЖЕНИЮ ЦЕЛИ И ВЫПОЛНЕНИЮ ТАКТИЧЕСКИХ ЗАДАЧ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87280" y="1592280"/>
          <a:ext cx="8640720" cy="496836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49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Обеспечение охраны морской среды, выполнения международных обязательств Российской Федерации на мо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6600"/>
                          </a:solidFill>
                          <a:uFillTx/>
                          <a:latin typeface="Arial"/>
                        </a:rPr>
                        <a:t>Приоритеты на 2009-2011 годы:</a:t>
                      </a: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Формирование специальных экологических и рыбохозяйственных требований для проведения геологического изучения, разведки и добычи углеводородного сырья в заповедной зоне северной части Каспийского моря, другие научные исследов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Обеспечение охраны озера Байкал и Байкальской природной территор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роведение научных исследований Байкальской природной территор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6600"/>
                          </a:solidFill>
                          <a:uFillTx/>
                          <a:latin typeface="Arial"/>
                        </a:rPr>
                        <a:t>Значимые результ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Утверждены границы Байкальской природной территор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6600"/>
                          </a:solidFill>
                          <a:uFillTx/>
                          <a:latin typeface="Arial"/>
                        </a:rPr>
                        <a:t>Приоритеты на 2009-2011 годы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Разработка нормативов предельно допустимых воздействий на уникальную экологическую систему озера Байк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Разработка комплексных схем охраны и использования природных ресурсов Байкальской природной территор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Экологическая паспортизация хозяйственных объектов на Байкальской природной территор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108000" y="0"/>
            <a:ext cx="899640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Цель 3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спечение защищенности окружающей природной среды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населения и объектов эконом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132000" y="1125360"/>
            <a:ext cx="2843280" cy="26676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808080"/>
                </a:solidFill>
                <a:latin typeface="Arial Black"/>
              </a:rPr>
              <a:t>Показатели цел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50920" y="1568520"/>
          <a:ext cx="8713800" cy="2212920"/>
        </p:xfrm>
        <a:graphic>
          <a:graphicData uri="http://schemas.openxmlformats.org/drawingml/2006/table">
            <a:tbl>
              <a:tblPr/>
              <a:tblGrid>
                <a:gridCol w="2808360"/>
                <a:gridCol w="612720"/>
                <a:gridCol w="612720"/>
                <a:gridCol w="574560"/>
                <a:gridCol w="541440"/>
                <a:gridCol w="539640"/>
                <a:gridCol w="539640"/>
                <a:gridCol w="540000"/>
                <a:gridCol w="539640"/>
                <a:gridCol w="541440"/>
                <a:gridCol w="863640"/>
              </a:tblGrid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именование показател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д.изм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левое знач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л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ак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выпол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ровень изученности опасных геологических процессов и явлений на территории Российской Федер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ится с 2006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1,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1,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1,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,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,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,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 к 2020 го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ля площади страны, занятой заповедниками и национальными парк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110,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к 2012 го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108000" y="0"/>
            <a:ext cx="899640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Цель 3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спечение защищенности окружающей природной среды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населения и объектов эконом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6000" y="152280"/>
            <a:ext cx="882000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Бюджетные целевые программы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1566720"/>
            <a:ext cx="882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ЦП «Воспроизводство минерально-сырьевой базы (2006-2010 годы)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ЦП «Геологоразведочные работы общегеологического и специального назначения (2006-2010 годы)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ЦП «Мониторинг состояния недр (2006-2010 годы)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6000" y="4292640"/>
            <a:ext cx="849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ВЦП «Повышение эффективности деятельности особо охраняемых природных территорий федерального значения (2008-2010 годы)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2920" y="1566720"/>
            <a:ext cx="8569440" cy="131472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6000" y="1052640"/>
            <a:ext cx="849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 Black"/>
              </a:rPr>
              <a:t>Геология и недропользование (3 АВЦ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2920" y="4253040"/>
            <a:ext cx="8569440" cy="904680"/>
          </a:xfrm>
          <a:prstGeom prst="rect">
            <a:avLst/>
          </a:prstGeom>
          <a:noFill/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2920" y="3517920"/>
            <a:ext cx="8569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Особо охраняемые природные территории (1 АВЦ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5815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 Black"/>
              </a:rPr>
              <a:t>На реализацию целевых программ в 2009-11 гг. будет направлено 90% бюджета Минприроды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158920" y="706320"/>
            <a:ext cx="4500720" cy="26676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808080"/>
                </a:solidFill>
                <a:latin typeface="Arial Black"/>
              </a:rPr>
              <a:t>Значимые достигнутые результат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8000" y="0"/>
            <a:ext cx="89964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Мероприятия по повышению результативности бюджетных рас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58920" y="1177920"/>
          <a:ext cx="8353440" cy="502272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522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- Создана и проводится апробация автоматизированной системы подготовки доклада о результатах и основных направлениях деятельности МПР Ро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33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Образован отдел аудита результативности бюджетных расходов в составе Департамента экономики и финан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33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При реализации непрограммной деятельности введены критерии оценки качества управления финансами (финансового менеджмента), в том числе по обеспечению равномерности исполнения бюджета, контролю и ауди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33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Утверждены планы и прогнозные показатели деятельности для всех структурных подразделений МПР России, а также для подведомственных агентств и служб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33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Организованы на систематической основе проверки эффективности бюджетных расходов подведомственных агентств и службы, а также подведомственных организа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789360" y="3306600"/>
            <a:ext cx="1395360" cy="971640"/>
          </a:xfrm>
          <a:prstGeom prst="roundRect">
            <a:avLst>
              <a:gd name="adj" fmla="val 9639"/>
            </a:avLst>
          </a:prstGeom>
          <a:noFill/>
          <a:ln w="6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16360" y="2766960"/>
            <a:ext cx="1368360" cy="6843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985080" y="3306600"/>
            <a:ext cx="1971720" cy="971640"/>
          </a:xfrm>
          <a:prstGeom prst="roundRect">
            <a:avLst>
              <a:gd name="adj" fmla="val 9639"/>
            </a:avLst>
          </a:prstGeom>
          <a:noFill/>
          <a:ln w="6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85080" y="2766960"/>
            <a:ext cx="1979640" cy="6843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27640" y="3306600"/>
            <a:ext cx="1395360" cy="971640"/>
          </a:xfrm>
          <a:prstGeom prst="roundRect">
            <a:avLst>
              <a:gd name="adj" fmla="val 9639"/>
            </a:avLst>
          </a:prstGeom>
          <a:noFill/>
          <a:ln w="6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27640" y="2766960"/>
            <a:ext cx="1368360" cy="6843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82840" y="3306600"/>
            <a:ext cx="1217520" cy="971640"/>
          </a:xfrm>
          <a:prstGeom prst="roundRect">
            <a:avLst>
              <a:gd name="adj" fmla="val 9639"/>
            </a:avLst>
          </a:prstGeom>
          <a:noFill/>
          <a:ln w="6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48000" y="2766960"/>
            <a:ext cx="1152360" cy="6843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3308400"/>
            <a:ext cx="1971720" cy="971640"/>
          </a:xfrm>
          <a:prstGeom prst="roundRect">
            <a:avLst>
              <a:gd name="adj" fmla="val 9639"/>
            </a:avLst>
          </a:prstGeom>
          <a:noFill/>
          <a:ln w="6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2768760"/>
            <a:ext cx="1979640" cy="6840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2560" y="115920"/>
            <a:ext cx="788652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Организационно-функциональная структура Министерства природных ресурсов и экологии Российской Федерации и разграничение полномочи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82920" y="2732040"/>
            <a:ext cx="1117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 Black"/>
              </a:rPr>
              <a:t>Росприроднадзо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2776680"/>
            <a:ext cx="18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Федеральное агентство по недропользов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27640" y="277668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Ростехнадз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20000" y="2768760"/>
            <a:ext cx="190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Федеральное агентство водных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"/>
          <p:cNvCxnSpPr>
            <a:endCxn id="92" idx="0"/>
          </p:cNvCxnSpPr>
          <p:nvPr/>
        </p:nvCxnSpPr>
        <p:spPr>
          <a:xfrm rot="5400000">
            <a:off x="1331280" y="1922400"/>
            <a:ext cx="685080" cy="1008720"/>
          </a:xfrm>
          <a:prstGeom prst="bentConnector3">
            <a:avLst>
              <a:gd name="adj1" fmla="val 51945"/>
            </a:avLst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 flipH="1" rot="16200000">
            <a:off x="4734360" y="-472680"/>
            <a:ext cx="685080" cy="5798160"/>
          </a:xfrm>
          <a:prstGeom prst="bentConnector3">
            <a:avLst>
              <a:gd name="adj1" fmla="val 50105"/>
            </a:avLst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H="1" rot="16200000">
            <a:off x="3599280" y="661680"/>
            <a:ext cx="685080" cy="3529800"/>
          </a:xfrm>
          <a:prstGeom prst="bentConnector3">
            <a:avLst>
              <a:gd name="adj1" fmla="val 50105"/>
            </a:avLst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H="1" rot="16200000">
            <a:off x="2448360" y="1813320"/>
            <a:ext cx="685080" cy="1226160"/>
          </a:xfrm>
          <a:prstGeom prst="bentConnector3">
            <a:avLst>
              <a:gd name="adj1" fmla="val 50105"/>
            </a:avLst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2446200" y="3505320"/>
            <a:ext cx="104616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 Black"/>
              </a:rPr>
              <a:t>Контроль и надзор в сфере природопользован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3451320"/>
            <a:ext cx="19447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08080"/>
                </a:solidFill>
                <a:latin typeface="Arial Black"/>
              </a:rPr>
              <a:t>Оказание государственных услуг и управление государственным имуществом в сфере недропользован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27640" y="3460680"/>
            <a:ext cx="13701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 Black"/>
              </a:rPr>
              <a:t>Технологический надзо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 Black"/>
              </a:rPr>
              <a:t>Нормирование в сфере ОО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20000" y="3505320"/>
            <a:ext cx="19447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08080"/>
                </a:solidFill>
                <a:latin typeface="Arial Black"/>
              </a:rPr>
              <a:t>Оказание государственных услуг и управление федеральным имуществом в сфере</a:t>
            </a:r>
            <a:r>
              <a:rPr b="0" lang="en-US" sz="9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lang="ru-RU" sz="900" spc="-1" strike="noStrike">
                <a:solidFill>
                  <a:srgbClr val="808080"/>
                </a:solidFill>
                <a:latin typeface="Arial Black"/>
              </a:rPr>
              <a:t>водного хозяйств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1346040"/>
            <a:ext cx="108000" cy="10800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d64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08360" y="1797120"/>
            <a:ext cx="108000" cy="10800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d64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08360" y="2144880"/>
            <a:ext cx="108000" cy="10764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d64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4430520" y="1900080"/>
            <a:ext cx="468360" cy="5370480"/>
          </a:xfrm>
          <a:prstGeom prst="leftRightArrow">
            <a:avLst>
              <a:gd name="adj1" fmla="val 64120"/>
              <a:gd name="adj2" fmla="val 30847"/>
            </a:avLst>
          </a:prstGeom>
          <a:solidFill>
            <a:srgbClr val="c0c0c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9040" y="4406760"/>
            <a:ext cx="432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 Black"/>
              </a:rPr>
              <a:t>Децентрализация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73440" y="1112760"/>
            <a:ext cx="5219640" cy="126072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51280" y="1238400"/>
            <a:ext cx="5221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Выработка государственной политики в сфере изучения, использования, воспроизводства и охраны природных ресурс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89440" y="1728720"/>
            <a:ext cx="522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Охрана окружающей среды и технологический надзо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2073240"/>
            <a:ext cx="522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Координация и контроль деятельности федеральных агентств и служ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9280" y="914400"/>
            <a:ext cx="1589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0920" y="1346040"/>
            <a:ext cx="2611440" cy="792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08000" y="148284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Минприроды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89440" y="5959440"/>
            <a:ext cx="385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99"/>
                </a:solidFill>
                <a:latin typeface="Arial"/>
              </a:rPr>
              <a:t>Региональный </a:t>
            </a: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99"/>
                </a:solidFill>
                <a:latin typeface="Arial"/>
              </a:rPr>
              <a:t>контроль и надзо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9440" y="5251320"/>
            <a:ext cx="33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Предоставление ресурсов в пользова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89440" y="5715000"/>
            <a:ext cx="49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Меры по предупреждению негативного  воздейств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89440" y="5483160"/>
            <a:ext cx="49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Обеспечение охраны, защиты и воспроизводства ресурс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45080" y="5337000"/>
            <a:ext cx="107640" cy="108000"/>
          </a:xfrm>
          <a:prstGeom prst="ellipse">
            <a:avLst/>
          </a:prstGeom>
          <a:solidFill>
            <a:srgbClr val="000080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45080" y="5575320"/>
            <a:ext cx="107640" cy="108000"/>
          </a:xfrm>
          <a:prstGeom prst="ellipse">
            <a:avLst/>
          </a:prstGeom>
          <a:solidFill>
            <a:srgbClr val="000080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45080" y="5827680"/>
            <a:ext cx="107640" cy="108000"/>
          </a:xfrm>
          <a:prstGeom prst="ellipse">
            <a:avLst/>
          </a:prstGeom>
          <a:solidFill>
            <a:srgbClr val="000080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73440" y="5084640"/>
            <a:ext cx="4302000" cy="1260720"/>
          </a:xfrm>
          <a:prstGeom prst="rect">
            <a:avLst/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60720" y="4905360"/>
            <a:ext cx="1589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15840" y="5357880"/>
            <a:ext cx="2611440" cy="7938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34920" y="548784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Субъекты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43280" y="6043680"/>
            <a:ext cx="108000" cy="108000"/>
          </a:xfrm>
          <a:prstGeom prst="ellipse">
            <a:avLst/>
          </a:prstGeom>
          <a:solidFill>
            <a:srgbClr val="000080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16360" y="3505320"/>
            <a:ext cx="13701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 Black"/>
              </a:rPr>
              <a:t>Гидрометеоролог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 Black"/>
              </a:rPr>
              <a:t>Мониторинг О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90800" y="2776680"/>
            <a:ext cx="139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Росгидром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27640" y="2354400"/>
            <a:ext cx="0" cy="412560"/>
          </a:xfrm>
          <a:prstGeom prst="line">
            <a:avLst/>
          </a:prstGeom>
          <a:ln w="475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7280" y="-63720"/>
            <a:ext cx="45720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Миссия и стратегические цели Минприроды Росс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076720" y="549360"/>
            <a:ext cx="3887640" cy="504720"/>
            <a:chOff x="5076720" y="549360"/>
            <a:chExt cx="3887640" cy="504720"/>
          </a:xfrm>
        </p:grpSpPr>
        <p:sp>
          <p:nvSpPr>
            <p:cNvPr id="135" name=""/>
            <p:cNvSpPr/>
            <p:nvPr/>
          </p:nvSpPr>
          <p:spPr>
            <a:xfrm>
              <a:off x="5076720" y="549360"/>
              <a:ext cx="3887640" cy="504720"/>
            </a:xfrm>
            <a:prstGeom prst="parallelogram">
              <a:avLst>
                <a:gd name="adj" fmla="val 181973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6200000">
              <a:off x="8088480" y="178200"/>
              <a:ext cx="504720" cy="1246680"/>
            </a:xfrm>
            <a:prstGeom prst="rtTriangl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6372360" y="6922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МИ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1052640"/>
            <a:ext cx="8717040" cy="1452600"/>
          </a:xfrm>
          <a:prstGeom prst="rect">
            <a:avLst/>
          </a:prstGeom>
          <a:solidFill>
            <a:srgbClr val="ffffff">
              <a:alpha val="90000"/>
            </a:srgbClr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076720" y="2565000"/>
            <a:ext cx="3887640" cy="576720"/>
            <a:chOff x="5076720" y="2565000"/>
            <a:chExt cx="3887640" cy="576720"/>
          </a:xfrm>
        </p:grpSpPr>
        <p:sp>
          <p:nvSpPr>
            <p:cNvPr id="140" name=""/>
            <p:cNvSpPr/>
            <p:nvPr/>
          </p:nvSpPr>
          <p:spPr>
            <a:xfrm>
              <a:off x="5076720" y="2565360"/>
              <a:ext cx="3887640" cy="576360"/>
            </a:xfrm>
            <a:prstGeom prst="parallelogram">
              <a:avLst>
                <a:gd name="adj" fmla="val 159354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6200000">
              <a:off x="8052840" y="2229840"/>
              <a:ext cx="576360" cy="1246680"/>
            </a:xfrm>
            <a:prstGeom prst="rtTriangl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5435640" y="27018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СТРАТЕГИЧЕСКИЕ 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3141720"/>
            <a:ext cx="8708760" cy="2916360"/>
          </a:xfrm>
          <a:prstGeom prst="rect">
            <a:avLst/>
          </a:prstGeom>
          <a:solidFill>
            <a:srgbClr val="ffffff">
              <a:alpha val="90000"/>
            </a:srgbClr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7280" y="3271680"/>
            <a:ext cx="324000" cy="2876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3271680"/>
            <a:ext cx="45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7280" y="3813120"/>
            <a:ext cx="324000" cy="28728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3813120"/>
            <a:ext cx="45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7280" y="4363920"/>
            <a:ext cx="324000" cy="28728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7280" y="4314960"/>
            <a:ext cx="45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7280" y="5013360"/>
            <a:ext cx="324000" cy="28728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5013360"/>
            <a:ext cx="45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9880" y="6076800"/>
            <a:ext cx="838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Стратегические цели МПР России соответствуют целям Правительства Российской Феде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144360" y="1125360"/>
            <a:ext cx="91803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Обеспечении рационального и безопасного природопользования, исключающего истощение природных ресурсов и необратимое ухудшение качества окружающей среды необходимое для обеспечения и сохранения природоресурсного потенциала в интересах будущих поколе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3265560"/>
            <a:ext cx="8424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Обеспечение воспроизводства (восстановления) природных ресур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Создание условий для повышения эффективности использования природных ресур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Обеспечение защищенности окружающей природной среды, населения и объектов эконом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Снижение риска угроз техногенного характер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Создание условий для эффективного осуществления  полномочий органов государственной власти субъектов Российской Феде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7280" y="5529240"/>
            <a:ext cx="324000" cy="28728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5479920"/>
            <a:ext cx="45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024360" y="946080"/>
            <a:ext cx="2842920" cy="26676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808080"/>
                </a:solidFill>
                <a:latin typeface="Arial Black"/>
              </a:rPr>
              <a:t>ТАКТИЧЕСКИЕ ЗАДАЧИ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8000" y="239760"/>
            <a:ext cx="89964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Цель 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спечение воспроизводства природных ресурсов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92000" y="1881360"/>
          <a:ext cx="7920360" cy="2842920"/>
        </p:xfrm>
        <a:graphic>
          <a:graphicData uri="http://schemas.openxmlformats.org/drawingml/2006/table">
            <a:tbl>
              <a:tblPr/>
              <a:tblGrid>
                <a:gridCol w="7920360"/>
              </a:tblGrid>
              <a:tr h="296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cc3300"/>
                          </a:solidFill>
                          <a:uFillTx/>
                          <a:latin typeface="Tahoma"/>
                        </a:rPr>
                        <a:t>1.1 Обеспечение воспроизводства минерально-сырьевой ба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cc3300"/>
                          </a:solidFill>
                          <a:uFillTx/>
                          <a:latin typeface="Tahoma"/>
                        </a:rPr>
                        <a:t>1.2 Обеспечение геологической изученности территории Российской Федерации и ее континентального шельфа, получение геологической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1.3 Сохранение водности рек и других водных объектов для удовлетворения потребностей населения и объектов экономики в водных ресурс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c3300"/>
                      </a:solidFill>
                    </a:lnL>
                    <a:lnR w="28080">
                      <a:solidFill>
                        <a:srgbClr val="cc3300"/>
                      </a:solidFill>
                    </a:lnR>
                    <a:lnT w="28080">
                      <a:solidFill>
                        <a:srgbClr val="cc3300"/>
                      </a:solidFill>
                    </a:lnT>
                    <a:lnB w="280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476360" y="706320"/>
            <a:ext cx="6121440" cy="46476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808080"/>
                </a:solidFill>
                <a:latin typeface="Arial Black"/>
              </a:rPr>
              <a:t>ОСНОВНЫЕ МЕРОПРИЯТИЯ ПО ДОСТИЖЕНИЮ ЦЕЛИ И ВЫПОЛНЕНИЮ ТАКТИЧЕСКИХ ЗАДАЧ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0"/>
            <a:ext cx="89964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Цель 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спечение воспроизводства природных ресурсов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08000" y="1177920"/>
          <a:ext cx="8964720" cy="5599080"/>
        </p:xfrm>
        <a:graphic>
          <a:graphicData uri="http://schemas.openxmlformats.org/drawingml/2006/table">
            <a:tbl>
              <a:tblPr/>
              <a:tblGrid>
                <a:gridCol w="8964720"/>
              </a:tblGrid>
              <a:tr h="588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Воспроизводство минерально-сырьевой базы и геологическое изуче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кализация прогнозных ресурсов полезных ископаемых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ьные геолого-геофизические и геологосъемочные работы, Гидрогеологическая, инженерно-геологическая и геоэкологическая съемки масштаба, Специальные военно-геологические работы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государственной сети опорных геолого-геофизических профилей параметрических и сверхглубоких скважин нового поколения, разработка мероприятий по геологическому изучению и освоению глубоких горизонт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006600"/>
                          </a:solidFill>
                          <a:uFillTx/>
                          <a:latin typeface="Arial"/>
                        </a:rPr>
                        <a:t>Значимые результаты: </a:t>
                      </a:r>
                      <a:r>
                        <a:rPr b="0" lang="ru-RU" sz="12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В результате работ локализованы прогнозные ресурсы углеводородов в объеме 6.4 млрд. т условного топлива, в т.ч. необходимых для реализации проекта по созданию трубопровода «Восточная Сибирь – Тихий океан». Разработана Система управления воспроизводством минерально-сырьевой базы цветных и благородных метал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Выявлен ряд перспективных структур на акваториях арктического шельфа, к лицензированию подготовлены участки недр площадью 395 тыс. кв. км, из них на суше – 88. </a:t>
                      </a: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Открыто 37 новых месторождений нефти и газ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Второй год подряд обеспечивается прирост запасов углеводородов в объеме, превышающем годовой уровень их добычи, в том числе за счет внедрения методов повышения нефтеотдачи ожидается увеличение извлекаемых запасов нефти 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250 млн. 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006600"/>
                          </a:solidFill>
                          <a:uFillTx/>
                          <a:latin typeface="Tahoma"/>
                        </a:rPr>
                        <a:t>Приоритеты на 2009-2011 годы:</a:t>
                      </a:r>
                      <a:r>
                        <a:rPr b="0" lang="ru-RU" sz="12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 Северный, Приполярный и Полярный Урал (план строительства транспортной магистрали Полуночное Лабытнанги), Западная Сибирь (более 7 млрд. т ресурсов нефти и конденсата, более 25 трлн. куб.м газа, является важнейшим нашим резервом на будущее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План совместных действий МПР России, Роснедр и Росатома по формированию минерально-сырьевой базы и освоению месторождений урана на среднесрочную перспективу. Континентальный шельф Российской Федерации, Арктики (Хребет Ломоносова и поднятие Менделеева) и Антарктики. По оценкам, площадь расширенного континентального шельфа России в Арктике за пределами 200 морских миль может составить 1,2 млн. кв. км с прогнозным ресурсным потенциалом углеводородов в 4,9 млрд. т.у.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Выявление ресурсов углеводородов и последующего наполнения магистрального трубопровода «Восточная Сибирь – Тихий океан». Параметрическое бурение предлагается осуществить на территории Красноярского края, Эвенкийского округа, Республики Саха (Якутия) и Иркутской области. Всего предусматривается пробурить за 3 года 7 скважин или 24,1  тыс.пог. метр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024360" y="679320"/>
            <a:ext cx="2842920" cy="26676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808080"/>
                </a:solidFill>
                <a:latin typeface="Arial Black"/>
              </a:rPr>
              <a:t>Показатели цел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8000" y="-27000"/>
            <a:ext cx="89964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Цель 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спечение воспроизводства природных ресурсов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08000" y="1449360"/>
          <a:ext cx="8893080" cy="1719360"/>
        </p:xfrm>
        <a:graphic>
          <a:graphicData uri="http://schemas.openxmlformats.org/drawingml/2006/table">
            <a:tbl>
              <a:tblPr/>
              <a:tblGrid>
                <a:gridCol w="2700360"/>
                <a:gridCol w="718920"/>
                <a:gridCol w="540000"/>
                <a:gridCol w="541080"/>
                <a:gridCol w="503280"/>
                <a:gridCol w="540000"/>
                <a:gridCol w="541080"/>
                <a:gridCol w="574920"/>
                <a:gridCol w="541080"/>
                <a:gridCol w="576360"/>
                <a:gridCol w="1116000"/>
              </a:tblGrid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именование показател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д.изм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левое знач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выпол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ношение ценности локализованных и оцененных ресурсов в текущем году к стоимости погашенных запас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 к 2012 го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024360" y="1125360"/>
            <a:ext cx="2842920" cy="26676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808080"/>
                </a:solidFill>
                <a:latin typeface="Arial Black"/>
              </a:rPr>
              <a:t>ТАКТИЧЕСКИЕ ЗАДАЧИ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8000" y="-27000"/>
            <a:ext cx="89964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Цель 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здание условий для повышения эффективност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использования природных ресур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03280" y="1881360"/>
          <a:ext cx="8136000" cy="352260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35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cc3300"/>
                          </a:solidFill>
                          <a:uFillTx/>
                          <a:latin typeface="Tahoma"/>
                        </a:rPr>
                        <a:t>2.1 Создание условий для повышения эффективности  использования федерального фонда не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2.2 Создание условий для  повышения эффективности использования водных  ресурсов и объек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2.3 Информационное обеспечение государственного управления в сфере природопольз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c3300"/>
                      </a:solidFill>
                    </a:lnL>
                    <a:lnR w="28080">
                      <a:solidFill>
                        <a:srgbClr val="cc3300"/>
                      </a:solidFill>
                    </a:lnR>
                    <a:lnT w="28080">
                      <a:solidFill>
                        <a:srgbClr val="cc3300"/>
                      </a:solidFill>
                    </a:lnT>
                    <a:lnB w="280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311640" y="990720"/>
            <a:ext cx="2842920" cy="26676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808080"/>
                </a:solidFill>
                <a:latin typeface="Arial Black"/>
              </a:rPr>
              <a:t>Показатели цел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08000" y="1666800"/>
          <a:ext cx="8928000" cy="1954440"/>
        </p:xfrm>
        <a:graphic>
          <a:graphicData uri="http://schemas.openxmlformats.org/drawingml/2006/table">
            <a:tbl>
              <a:tblPr/>
              <a:tblGrid>
                <a:gridCol w="2448000"/>
                <a:gridCol w="684000"/>
                <a:gridCol w="658800"/>
                <a:gridCol w="601920"/>
                <a:gridCol w="610920"/>
                <a:gridCol w="540000"/>
                <a:gridCol w="576000"/>
                <a:gridCol w="576360"/>
                <a:gridCol w="539640"/>
                <a:gridCol w="541440"/>
                <a:gridCol w="1150920"/>
              </a:tblGrid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именование показател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д.изм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левое знач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л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ак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выпол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ля месторождений, осваиваемых без отклонений от требований утвержденных в установленном порядке технических (технологических) проек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 к 2015 го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108000" y="-27000"/>
            <a:ext cx="89964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Цель 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здание условий для повышения эффективност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использования природных ресур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024360" y="1123920"/>
            <a:ext cx="2842920" cy="26676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808080"/>
                </a:solidFill>
                <a:latin typeface="Arial Black"/>
              </a:rPr>
              <a:t>ТАКТИЧЕСКИЕ ЗАДАЧИ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8000" y="0"/>
            <a:ext cx="899640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Цель 3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спечение защищенности окружающей природной среды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населения и объектов эконом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79280" y="1521000"/>
          <a:ext cx="8821800" cy="5074920"/>
        </p:xfrm>
        <a:graphic>
          <a:graphicData uri="http://schemas.openxmlformats.org/drawingml/2006/table">
            <a:tbl>
              <a:tblPr/>
              <a:tblGrid>
                <a:gridCol w="8821800"/>
              </a:tblGrid>
              <a:tr h="50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3.1 Ограничение негативного техногенного воздействия на окружающую среду, население и объекты эконом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Tahoma"/>
                        </a:rPr>
                        <a:t>3.2 Снижение ущерба от негативных геологических процессов и явл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3.3 Снижение уровня загрязнения почв и земельных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3.4. Обеспечение защищенности населения и объектов экономики от наводнений и другого вредного воздействия вод природного характ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3.5. Снижение уровня загрязнения поверхностных в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3.6 Обеспечение охраны морской среды, выполнения международных обязательств Российской Федерации на мо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Tahoma"/>
                        </a:rPr>
                        <a:t>3.7 Обеспечение охраны озера Байкал и байкальской природной территор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Tahoma"/>
                        </a:rPr>
                        <a:t>3.8 Обеспечение сохранения редких и находящихся под угрозой исчезновения объектов животного и растительного ми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Tahoma"/>
                        </a:rPr>
                        <a:t>3.9 Обеспечение сохранности природных систем за счет развития и совершенствования системы особо охраняемых природных территор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3.10 Снижение уровня загрязнения атмосферного воздух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3.11 Обеспечение защищенности жизненно важных интересов личности, общества и государства от воздействия опасных природных яв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3.12 Обеспечение потребностей государства и населения в гидрометеорологической,  гелиогеофизической информации, информации о загрязнении окружающей сре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3.13 Обеспечение геополитических интересов Российской Федерации в Антаркти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c3300"/>
                      </a:solidFill>
                    </a:lnL>
                    <a:lnR w="28080">
                      <a:solidFill>
                        <a:srgbClr val="cc3300"/>
                      </a:solidFill>
                    </a:lnR>
                    <a:lnT w="28080">
                      <a:solidFill>
                        <a:srgbClr val="cc3300"/>
                      </a:solidFill>
                    </a:lnT>
                    <a:lnB w="280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5T09:42:46Z</dcterms:created>
  <dc:creator>IPavlov</dc:creator>
  <dc:description/>
  <dc:language>en-US</dc:language>
  <cp:lastModifiedBy>aleksandrov</cp:lastModifiedBy>
  <dcterms:modified xsi:type="dcterms:W3CDTF">2008-07-11T11:51:57Z</dcterms:modified>
  <cp:revision>675</cp:revision>
  <dc:subject/>
  <dc:title>Направления Российского экспорта леспородукции</dc:title>
</cp:coreProperties>
</file>