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BBA-B849-4EDB-821F-FE032961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8F23-A329-4C5B-A278-07355FD9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1C8F-9858-41E1-BC79-FEC37506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D77-84B6-4616-9629-AE3234F6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0215-E033-4452-AD03-4CC094EC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762-0C8D-46B6-8B98-AD4F5D30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063-AC15-4B0C-898B-5419406C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E84B-CE02-4B8E-BA84-72AE8B97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E6A7-D3DB-4E18-B4F1-18A8EAA2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781F-E639-4984-B129-F0E45119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6C59-1E7A-4CED-8657-F95336C6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F6B-D3F4-4E33-8590-610F2B54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8263-ED89-4F12-9030-E9E8350EE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197000"/>
            <a:ext cx="802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РАЗРАБОТКА 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показателей деятельности ООПТ Минприроды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5640" y="3429000"/>
            <a:ext cx="74883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Семинар «Разработка Докладов о результатах                          и основных направлениях деятельности                  бюджетных учреждений и территориальных орган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002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e002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e002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e0027"/>
                </a:solidFill>
                <a:latin typeface="Arial"/>
              </a:rPr>
              <a:t>10 июля 2008 г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BD1-974A-4673-A90F-1D0ECBEF94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c0024"/>
                </a:solidFill>
                <a:latin typeface="Arial"/>
              </a:rPr>
              <a:t>Показатели деятельности</a:t>
            </a:r>
            <a:br>
              <a:rPr sz="3000"/>
            </a:br>
            <a:r>
              <a:rPr b="0" i="1" lang="en-US" sz="2200" spc="-1" strike="noStrike">
                <a:solidFill>
                  <a:srgbClr val="bc0024"/>
                </a:solidFill>
                <a:latin typeface="Arial"/>
              </a:rPr>
              <a:t>Подготовка и внесение изменений в ведомственные нормативные  а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561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8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1785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Внесены изменения в 130 индивидуальных Положения ГПЗ и НП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1785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Приказ о внесении изменений в Положение о ГУ «НП «Мещера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1785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Переработано Положение о Восточно-Уральском заповеднике Росато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Дополнительно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1785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Переработан раздел «ООПТ» к Государственному докладу о состоянии окружающей среды за 2004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1785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Подготовка Предварительного перечня природных объектов, номинируемых в Список всемирного наследия ЮНЕСК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1785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Организация приема миссии ЮНЕСКО на УВПН «Озеро Байкал» (нефтепровод ВСТО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1785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13 проектных работ по вопросам ООПТ в рамках НИР  МПР Росс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1785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Приказ об утверждении Положения о ФГУ «Алтайский ГПЗ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1785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5 приказов о внесении изменений в Положения о ФГУ («НП «Мещера», «Паанаярви», «Сочинский»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1785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4 приказа МПР России (о реализации постановления Правительства РФ от 21.01.2006 № 27 об учреждении ГПЗ «Кологривский лес», о реализации распоряжения Правительства РФ от 23.05.2001 № 725-р, о проведении мероприятий, посвященных 980-летию заповедной системы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1785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2 приказа МПР России по обеспечению деятельности Росприроднадзора в части добывания и оборота краснокнижных вид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1135-7CC5-42CE-9344-2422EF52EC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5257800" y="1752480"/>
          <a:ext cx="3535200" cy="28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752480"/>
                    <a:ext cx="3535200" cy="28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295960" y="4238640"/>
          <a:ext cx="3409920" cy="2638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5960" y="4238640"/>
                    <a:ext cx="340992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39640" y="4111560"/>
          <a:ext cx="3311640" cy="2630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4111560"/>
                    <a:ext cx="33116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09480" y="1905120"/>
          <a:ext cx="3311640" cy="26305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1905120"/>
                    <a:ext cx="33116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0024"/>
                </a:solidFill>
                <a:latin typeface="Arial"/>
              </a:rPr>
              <a:t>Динамика землеустроительных работ в заповедниках и национальных парках (40,6 млн. г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2044800"/>
            <a:ext cx="922680" cy="307080"/>
          </a:xfrm>
          <a:prstGeom prst="rect">
            <a:avLst/>
          </a:prstGeom>
          <a:solidFill>
            <a:srgbClr val="e7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5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86200" y="2044800"/>
            <a:ext cx="923040" cy="307080"/>
          </a:xfrm>
          <a:prstGeom prst="rect">
            <a:avLst/>
          </a:prstGeom>
          <a:solidFill>
            <a:srgbClr val="e7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7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46240" y="6283440"/>
            <a:ext cx="71280" cy="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4960" y="6237360"/>
            <a:ext cx="195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государственная регистрац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560" y="6407280"/>
            <a:ext cx="718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заверше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5680" y="6281640"/>
            <a:ext cx="71280" cy="79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4400" y="6237360"/>
            <a:ext cx="195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государственная регистрац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6920" y="6405480"/>
            <a:ext cx="755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проводи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72040" y="6281640"/>
            <a:ext cx="71640" cy="79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0400" y="6237360"/>
            <a:ext cx="205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к государственной регистр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2560" y="6405480"/>
            <a:ext cx="945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не приступа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200664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З а п о в е д н и к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3280" y="417024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Н а ц и о н а л ь н ы е  п а р к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251460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 млн.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259092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,6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лн.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49320" y="30942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5791320"/>
            <a:ext cx="88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,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лн.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4191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лн.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54400" y="5094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579132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,0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лн.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24680" y="5715000"/>
            <a:ext cx="102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,88 млн.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25146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,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лн.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24680" y="243828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,9 млн.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001000" y="3886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,5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лн.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01000" y="46483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лн.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380988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,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лн.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457200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,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лн.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26828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для 100 заповедников и 35 национальных парков без учета 5 новых ООП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A96E-1784-4B05-B167-9DC727C05F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52640" y="304920"/>
            <a:ext cx="809136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0024"/>
                </a:solidFill>
                <a:latin typeface="Arial"/>
              </a:rPr>
              <a:t>Планирование и оптимизация системы ООП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c0024"/>
                </a:solidFill>
                <a:latin typeface="Arial"/>
              </a:rPr>
              <a:t>(распоряжение Правительства РФ от 23.05.2001 № 725-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676520" y="1773360"/>
          <a:ext cx="7467480" cy="4770360"/>
        </p:xfrm>
        <a:graphic>
          <a:graphicData uri="http://schemas.openxmlformats.org/drawingml/2006/table">
            <a:tbl>
              <a:tblPr/>
              <a:tblGrid>
                <a:gridCol w="2895480"/>
                <a:gridCol w="457200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  <a:ea typeface="Arial Unicode MS"/>
                        </a:rPr>
                        <a:t>Создан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о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 ГПЗ и 5 Н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  <a:ea typeface="Arial Unicode MS"/>
                        </a:rPr>
                        <a:t>ГПЗ «Кологривский лес» </a:t>
                      </a:r>
                      <a:r>
                        <a:rPr b="0" lang="ru-RU" sz="1400" spc="-1" strike="noStrike">
                          <a:solidFill>
                            <a:srgbClr val="a50021"/>
                          </a:solidFill>
                          <a:latin typeface="Arial"/>
                          <a:ea typeface="Arial Unicode MS"/>
                        </a:rPr>
                        <a:t>(Костромская обл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  <a:ea typeface="Arial Unicode MS"/>
                        </a:rPr>
                        <a:t>НП «Калевальский» </a:t>
                      </a:r>
                      <a:r>
                        <a:rPr b="0" lang="ru-RU" sz="1400" spc="-1" strike="noStrike">
                          <a:solidFill>
                            <a:srgbClr val="a50021"/>
                          </a:solidFill>
                          <a:latin typeface="Arial"/>
                          <a:ea typeface="Arial Unicode MS"/>
                        </a:rPr>
                        <a:t>(Республика Карел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  <a:ea typeface="Arial Unicode MS"/>
                        </a:rPr>
                        <a:t>НП «Бузулукский бор» </a:t>
                      </a:r>
                      <a:r>
                        <a:rPr b="0" lang="ru-RU" sz="1400" spc="-1" strike="noStrike">
                          <a:solidFill>
                            <a:srgbClr val="a50021"/>
                          </a:solidFill>
                          <a:latin typeface="Arial"/>
                          <a:ea typeface="Arial Unicode MS"/>
                        </a:rPr>
                        <a:t>(Оренбургская обл.)</a:t>
                      </a: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  <a:ea typeface="Arial Unicode MS"/>
                        </a:rPr>
                        <a:t>НП «Удэгейская легенда» </a:t>
                      </a:r>
                      <a:r>
                        <a:rPr b="0" lang="ru-RU" sz="1400" spc="-1" strike="noStrike">
                          <a:solidFill>
                            <a:srgbClr val="a50021"/>
                          </a:solidFill>
                          <a:latin typeface="Arial"/>
                          <a:ea typeface="Arial Unicode MS"/>
                        </a:rPr>
                        <a:t>(Приморский кра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  <a:ea typeface="Arial Unicode MS"/>
                        </a:rPr>
                        <a:t>НП «Зов тигра» </a:t>
                      </a:r>
                      <a:r>
                        <a:rPr b="0" lang="ru-RU" sz="1400" spc="-1" strike="noStrike">
                          <a:solidFill>
                            <a:srgbClr val="a50021"/>
                          </a:solidFill>
                          <a:latin typeface="Arial"/>
                          <a:ea typeface="Arial Unicode MS"/>
                        </a:rPr>
                        <a:t>(Приморский кра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  <a:ea typeface="Arial Unicode MS"/>
                        </a:rPr>
                        <a:t>НП «Анюйский»</a:t>
                      </a:r>
                      <a:r>
                        <a:rPr b="0" lang="ru-RU" sz="1400" spc="-1" strike="noStrike">
                          <a:solidFill>
                            <a:srgbClr val="a50021"/>
                          </a:solidFill>
                          <a:latin typeface="Arial"/>
                          <a:ea typeface="Arial Unicode MS"/>
                        </a:rPr>
                        <a:t> (Хабаровский кра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окумен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на согласовани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 ФОИВ –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 Н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НП «Онежское Поморье»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(Архангельская обл.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Разработано новое эколого-экономическое обосновани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 НП и 1 ГП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НП «Русская Арктика»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(Архангельская обл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ГПЗ «Ингерманландский»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(Ленинградская обл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Докумен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в стадии разработки и доработк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 2 НП и 1 ГП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ГПЗ «Сайлюгемский»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(Республика Алта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НП «Беринг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НП «Шантарские острова»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(Хабаровский кра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тупили к организационному процессу 6 субъектов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4284720" y="119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c0024"/>
                </a:solidFill>
                <a:latin typeface="Arial"/>
              </a:rPr>
              <a:t>2006-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bc0024"/>
                </a:solidFill>
                <a:latin typeface="Arial"/>
              </a:rPr>
              <a:t>2007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B66-2B55-4E84-A5F2-D88D64F7D3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63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0024"/>
                </a:solidFill>
                <a:latin typeface="Arial"/>
              </a:rPr>
              <a:t>Планирование и оптимизация системы ООП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906560" y="995400"/>
          <a:ext cx="6388200" cy="54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6560" y="995400"/>
                    <a:ext cx="638820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-166680" y="52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60360" y="112536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50021"/>
                </a:solidFill>
                <a:latin typeface="Arial"/>
              </a:rPr>
              <a:t>Развитие сети заповедников и национальных парко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C2DA-AED1-44B7-BE5C-EA9F1E02FB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115920"/>
            <a:ext cx="849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0024"/>
                </a:solidFill>
                <a:latin typeface="Arial"/>
              </a:rPr>
              <a:t>Планирование и оптимизация системы ООПТ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c0024"/>
                </a:solidFill>
                <a:latin typeface="Arial Unicode MS"/>
              </a:rPr>
              <a:t>Разработка новой схемы территориального планирования ООПТ на период после выполнения распоряжения Правительства РФ от 23.05.2001 № 725-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00480" y="1158840"/>
            <a:ext cx="434340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е факторы, учитываемые при планировании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ществующие ООП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циаль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дкие в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ологическое разнообраз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ндшафтное разнообраз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B4D-C1C1-4D79-9689-F41439FC4A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066680" y="380880"/>
          <a:ext cx="7705800" cy="491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0880"/>
                    <a:ext cx="770580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600200" y="5105520"/>
            <a:ext cx="70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c0024"/>
                </a:solidFill>
                <a:latin typeface="Arial"/>
              </a:rPr>
              <a:t>Доля редких и находящихся под угрозой исчезновения объектов животного и растительного мира, сохраняемых на ООПТ, от их общего колич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0024"/>
                </a:solidFill>
                <a:latin typeface="Arial"/>
              </a:rPr>
              <a:t>Динамика сохранения биоразнообразия на ООП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58920" y="57340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2010 году значение данного показателя должно достигнуть 90%  (в перспективе целевое значение должно быть 10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75B-FC1E-48D3-919F-AC5B3636DE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87280" y="4292640"/>
            <a:ext cx="7467840" cy="23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c0024"/>
                </a:solidFill>
                <a:latin typeface="Times New Roman"/>
              </a:rPr>
              <a:t>ООПТ в ареале амурского тиг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c0024"/>
                </a:solidFill>
                <a:latin typeface="Times New Roman"/>
              </a:rPr>
              <a:t>2006 год –</a:t>
            </a:r>
            <a:r>
              <a:rPr b="1" lang="en-US" sz="1400" spc="-1" strike="noStrike">
                <a:solidFill>
                  <a:srgbClr val="bc0024"/>
                </a:solidFill>
                <a:latin typeface="Times New Roman"/>
              </a:rPr>
              <a:t> 30</a:t>
            </a:r>
            <a:r>
              <a:rPr b="1" lang="ru-RU" sz="1400" spc="-1" strike="noStrike">
                <a:solidFill>
                  <a:srgbClr val="bc0024"/>
                </a:solidFill>
                <a:latin typeface="Times New Roman"/>
              </a:rPr>
              <a:t>,4</a:t>
            </a:r>
            <a:r>
              <a:rPr b="1" lang="en-US" sz="1400" spc="-1" strike="noStrike">
                <a:solidFill>
                  <a:srgbClr val="bc0024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bc0024"/>
                </a:solidFill>
                <a:latin typeface="Times New Roman"/>
              </a:rPr>
              <a:t>тыс. км</a:t>
            </a:r>
            <a:r>
              <a:rPr b="0" lang="ru-RU" sz="1400" spc="-1" strike="noStrike" u="sng" baseline="30000">
                <a:solidFill>
                  <a:srgbClr val="bc0024"/>
                </a:solidFill>
                <a:uFillTx/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bc0024"/>
                </a:solidFill>
                <a:latin typeface="Times New Roman"/>
              </a:rPr>
              <a:t> (19,4% ареала), включ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оведников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8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9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ыс. км</a:t>
            </a:r>
            <a:r>
              <a:rPr b="0" lang="ru-RU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едеральных заказника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– 3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,1 тыс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м</a:t>
            </a:r>
            <a:r>
              <a:rPr b="0" lang="ru-RU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гиональные заказник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18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4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м</a:t>
            </a:r>
            <a:r>
              <a:rPr b="0" lang="ru-RU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c0024"/>
                </a:solidFill>
                <a:latin typeface="Times New Roman"/>
              </a:rPr>
              <a:t>2007 год: дополнительно созданы</a:t>
            </a:r>
            <a:r>
              <a:rPr b="1" lang="en-US" sz="1400" spc="-1" strike="noStrike">
                <a:solidFill>
                  <a:srgbClr val="bc002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циональных парк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,004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м</a:t>
            </a:r>
            <a:r>
              <a:rPr b="0" lang="ru-RU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4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9360" y="6308640"/>
            <a:ext cx="549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16360" y="1557360"/>
            <a:ext cx="410544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ff"/>
                </a:solidFill>
                <a:latin typeface="Arial"/>
              </a:rPr>
              <a:t>Площадь ареала тигра</a:t>
            </a:r>
            <a:r>
              <a:rPr b="1" i="1" lang="en-US" sz="1300" spc="-1" strike="noStrike">
                <a:solidFill>
                  <a:srgbClr val="3333ff"/>
                </a:solidFill>
                <a:latin typeface="Arial"/>
              </a:rPr>
              <a:t> -</a:t>
            </a:r>
            <a:r>
              <a:rPr b="1" i="1" lang="ru-RU" sz="1300" spc="-1" strike="noStrike">
                <a:solidFill>
                  <a:srgbClr val="3333ff"/>
                </a:solidFill>
                <a:latin typeface="Arial"/>
              </a:rPr>
              <a:t> 156571 км</a:t>
            </a:r>
            <a:r>
              <a:rPr b="1" i="1" lang="ru-RU" sz="13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i="1" lang="ru-RU" sz="13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ff"/>
                </a:solidFill>
                <a:latin typeface="Arial"/>
              </a:rPr>
              <a:t>Общая численность в 2005 году составила около </a:t>
            </a:r>
            <a:r>
              <a:rPr b="1" i="1" lang="en-US" sz="1300" spc="-1" strike="noStrike">
                <a:solidFill>
                  <a:srgbClr val="3333ff"/>
                </a:solidFill>
                <a:latin typeface="Arial"/>
              </a:rPr>
              <a:t>450 </a:t>
            </a:r>
            <a:r>
              <a:rPr b="1" i="1" lang="ru-RU" sz="1300" spc="-1" strike="noStrike">
                <a:solidFill>
                  <a:srgbClr val="3333ff"/>
                </a:solidFill>
                <a:latin typeface="Arial"/>
              </a:rPr>
              <a:t>тигров (стабилизировалась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3333ff"/>
                </a:solidFill>
                <a:latin typeface="Arial"/>
              </a:rPr>
              <a:t>Ежегодно убивается   </a:t>
            </a:r>
            <a:r>
              <a:rPr b="1" i="1" lang="en-US" sz="1300" spc="-1" strike="noStrike">
                <a:solidFill>
                  <a:srgbClr val="3333ff"/>
                </a:solidFill>
                <a:latin typeface="Arial"/>
              </a:rPr>
              <a:t>25-30 </a:t>
            </a:r>
            <a:r>
              <a:rPr b="1" i="1" lang="ru-RU" sz="1300" spc="-1" strike="noStrike">
                <a:solidFill>
                  <a:srgbClr val="3333ff"/>
                </a:solidFill>
                <a:latin typeface="Arial"/>
              </a:rPr>
              <a:t>тигр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279360"/>
            <a:ext cx="8165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0024"/>
                </a:solidFill>
                <a:latin typeface="Arial"/>
              </a:rPr>
              <a:t>Динамика сохранения биоразнообразия на ООПТ</a:t>
            </a:r>
            <a:br>
              <a:rPr sz="2400"/>
            </a:br>
            <a:r>
              <a:rPr b="0" i="1" lang="en-US" sz="1600" spc="-1" strike="noStrike">
                <a:solidFill>
                  <a:srgbClr val="bc0024"/>
                </a:solidFill>
                <a:latin typeface="Arial"/>
              </a:rPr>
              <a:t>Создание новых ООПТ для сохранения ключевых местообитаний тиг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10080" y="4800600"/>
            <a:ext cx="3812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c00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4495680"/>
            <a:ext cx="2286000" cy="1142640"/>
          </a:xfrm>
          <a:prstGeom prst="rect">
            <a:avLst/>
          </a:prstGeom>
          <a:noFill/>
          <a:ln w="9360">
            <a:solidFill>
              <a:srgbClr val="bc0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bc0024"/>
                </a:solidFill>
                <a:latin typeface="Times New Roman"/>
              </a:rPr>
              <a:t>под охра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c0024"/>
                </a:solidFill>
                <a:latin typeface="Times New Roman"/>
                <a:ea typeface="Times New Roman"/>
              </a:rPr>
              <a:t>~</a:t>
            </a:r>
            <a:r>
              <a:rPr b="1" lang="ru-RU" sz="2000" spc="-1" strike="noStrike">
                <a:solidFill>
                  <a:srgbClr val="bc0024"/>
                </a:solidFill>
                <a:latin typeface="Times New Roman"/>
              </a:rPr>
              <a:t> 25%  аре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c0024"/>
                </a:solidFill>
                <a:latin typeface="Times New Roman"/>
              </a:rPr>
              <a:t>обитания т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AC57-DBFE-436D-A451-4EB4FD44F2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-9360" y="6308640"/>
            <a:ext cx="549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16360" y="19890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4076640"/>
            <a:ext cx="72072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47640" y="1268280"/>
          <a:ext cx="4038840" cy="23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268280"/>
                    <a:ext cx="403884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692360" y="4365720"/>
          <a:ext cx="3905280" cy="2247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4365720"/>
                    <a:ext cx="39052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908000" y="3860640"/>
            <a:ext cx="561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инамика численности зубра на территории Кавказского государственного природного биосферного заповедни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35280" y="981000"/>
            <a:ext cx="547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инамика численности сайгака на территории Государственного природного биосферного заповедника «Черные земл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342360" y="239580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414000" y="5346720"/>
            <a:ext cx="83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0" y="333360"/>
            <a:ext cx="78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0024"/>
                </a:solidFill>
                <a:latin typeface="Arial"/>
              </a:rPr>
              <a:t>Динамика сохранения биоразнообразия на ООП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D3D9-341B-4130-BFEA-45EDC8D1B1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0024"/>
                </a:solidFill>
                <a:latin typeface="Arial"/>
              </a:rPr>
              <a:t>Показатели рекреационных потоков </a:t>
            </a:r>
            <a:br>
              <a:rPr sz="2400"/>
            </a:br>
            <a:r>
              <a:rPr b="1" lang="en-US" sz="2400" spc="-1" strike="noStrike">
                <a:solidFill>
                  <a:srgbClr val="bc0024"/>
                </a:solidFill>
                <a:latin typeface="Arial"/>
              </a:rPr>
              <a:t>и объемов рекреационных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16000" y="836640"/>
          <a:ext cx="403848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836640"/>
                    <a:ext cx="403848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435640" y="1521000"/>
          <a:ext cx="3095640" cy="186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1521000"/>
                    <a:ext cx="3095640" cy="18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132000" y="4149720"/>
          <a:ext cx="3095640" cy="208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4149720"/>
                    <a:ext cx="309564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2819520" y="6172200"/>
            <a:ext cx="4647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Доход от экопросвещения и туризма на ООП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млн.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3429000"/>
            <a:ext cx="350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Строительство новых и реконструкция визит центров ООПТ (шт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80000" y="3429000"/>
            <a:ext cx="367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Количество организов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осетителей ООПТ (тыс. челов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D31-4DA7-4808-8EF3-C24DB90E18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969920" y="450720"/>
            <a:ext cx="59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c0024"/>
                </a:solidFill>
                <a:latin typeface="Arial"/>
              </a:rPr>
              <a:t>Роль ООПТ в развитии рег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3228840"/>
            <a:ext cx="34290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b3b3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Увеличение производ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сельского и лесного  хозяйства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за счет улучшения водорегулирова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снижения эрозии при сохранен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естественного растительного покро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водно-болотных угодий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57800" y="1628640"/>
            <a:ext cx="350532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b3b3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Рост привлекательности земел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в экологически чистых буферных зон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для ведения сельского и подсоб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хозяйства, строительства жиль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объектов рекреации и ту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4753080"/>
            <a:ext cx="335304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b3b3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Сокращение издерже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природопользова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промышленность и ЖК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на кондиционир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используем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74640" y="3000240"/>
            <a:ext cx="335304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b3b3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Устойчивость доходов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во времен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от  различных видов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(лесное хозяйство, рыболовство, охот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побочное лесопользова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74640" y="5667480"/>
            <a:ext cx="33530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b3b3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Обеспечение занятости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74640" y="4143240"/>
            <a:ext cx="3353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b3b3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Привле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дополнительных доходов в бюдж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за счет развития туризма, народ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промыслов, транспорта и сферы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74640" y="1628640"/>
            <a:ext cx="342900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b3b3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Улучшение здоровья населения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в условиях чистой окружающей сре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буферных з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(снижение затрат на лече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увеличение производительности тру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5D82-EDB2-4A1A-B4A1-7FA1438E64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76360" y="260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0024"/>
                </a:solidFill>
                <a:latin typeface="Arial Unicode MS"/>
              </a:rPr>
              <a:t>СИСТЕМА ООПТ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990720"/>
            <a:ext cx="52578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Репрезентативность ф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деральн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ых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ООПТ</a:t>
            </a: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: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до 80% экосисте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50% - 80% краснокнижных видов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животных и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2286000"/>
            <a:ext cx="8077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101 государственный природный заповедни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3,8 млн. га,  в т.ч. площадь суши – 27,3 млн. га (1,6% территории России), морской акватории – 6,47 млн. г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40 национальных парко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,74  млн. га  (0,41%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69 государственных природных заказников федерального значения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,6 млн. га (0,73%), в т.ч. площадь суши – 9,7 млн. га (0,57%), морская акватория – 2,8 млн. 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2854 государственных природных заказника регионального знач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72,756 млн. га  (4,26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9235 памятников природ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,1 млн. га (0,24%), в т.ч. 32 – федерального значения (36,4 тыс. г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59 природных парков регионального значения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,882 млн. га (1,05% площади Росс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3DE-57DA-447F-AB6C-47E45A2DC1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4360" y="289080"/>
            <a:ext cx="8208720" cy="16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0024"/>
                </a:solidFill>
                <a:latin typeface="Arial Unicode MS"/>
              </a:rPr>
              <a:t>Категорирование территорий ООПТ по приоритет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0024"/>
                </a:solidFill>
                <a:latin typeface="Arial Unicode MS"/>
              </a:rPr>
              <a:t>для развития </a:t>
            </a:r>
            <a:r>
              <a:rPr b="1" lang="en-US" sz="2400" spc="-1" strike="noStrike">
                <a:solidFill>
                  <a:srgbClr val="bc0024"/>
                </a:solidFill>
                <a:latin typeface="Arial Unicode MS"/>
                <a:ea typeface="Arial Unicode MS"/>
              </a:rPr>
              <a:t>туризм</a:t>
            </a:r>
            <a:r>
              <a:rPr b="1" lang="en-US" sz="2400" spc="-1" strike="noStrike">
                <a:solidFill>
                  <a:srgbClr val="bc0024"/>
                </a:solidFill>
                <a:latin typeface="Arial Unicode MS"/>
              </a:rPr>
              <a:t>а и экскурсио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bc0024"/>
                </a:solidFill>
                <a:latin typeface="Arial Unicode MS"/>
              </a:rPr>
              <a:t>(по степени привлекательности, посещаемости и перспективности региона для развития туризма в цело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2209680"/>
            <a:ext cx="1828800" cy="824040"/>
          </a:xfrm>
          <a:prstGeom prst="rect">
            <a:avLst/>
          </a:prstGeom>
          <a:solidFill>
            <a:srgbClr val="ff3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Интенсивно посещаем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территори</a:t>
            </a:r>
            <a:r>
              <a:rPr b="1" lang="en-US" sz="1600" spc="-1" strike="noStrike">
                <a:solidFill>
                  <a:srgbClr val="ffffff"/>
                </a:solidFill>
                <a:latin typeface="Arial Unicode MS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3352680"/>
            <a:ext cx="1828800" cy="15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Территории, требующие дополнительной экспертизы и  значительных инвести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3352680"/>
            <a:ext cx="2133720" cy="3989160"/>
          </a:xfrm>
          <a:prstGeom prst="rect">
            <a:avLst/>
          </a:prstGeom>
          <a:solidFill>
            <a:srgbClr val="ff3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Стабильный 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оток посетителей,  туризм рентабелен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, 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риносит значительные прибыли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Unicode MS"/>
              </a:rPr>
              <a:t>В</a:t>
            </a:r>
            <a:r>
              <a:rPr b="1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первую очередь, будут играть важную роль в экономическом развитии регион</a:t>
            </a:r>
            <a:r>
              <a:rPr b="1" lang="en-US" sz="1600" spc="-1" strike="noStrike">
                <a:solidFill>
                  <a:srgbClr val="ffffff"/>
                </a:solidFill>
                <a:latin typeface="Arial Unicode MS"/>
              </a:rPr>
              <a:t>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1905120"/>
            <a:ext cx="2133360" cy="114444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спективные территории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для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альнейшего разви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3352680"/>
            <a:ext cx="3505320" cy="3762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оведена  экспертная оценка потенциала территорий, определены категории посетителей, даны рекомендации по допустимым нагрузкам, в отдельных территориях начата работа с  местным населением, разработаны маршруты, новые программы экологического туризма, соответствующие международным стандартам, проведены мероприятия по  рекламе и маркетингу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Приоритет.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 Требуются инвестиции </a:t>
            </a:r>
            <a:r>
              <a:rPr b="1" lang="en-US" sz="1500" spc="-1" strike="noStrike">
                <a:solidFill>
                  <a:srgbClr val="000000"/>
                </a:solidFill>
                <a:latin typeface="Arial Unicode MS"/>
              </a:rPr>
              <a:t> в инфраструктур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C1DC-D060-40D7-ABF8-90800D9221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c0024"/>
                </a:solidFill>
                <a:latin typeface="Arial"/>
              </a:rPr>
              <a:t>Финансирование системы ООП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67280" y="1052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c0024"/>
                </a:solidFill>
                <a:latin typeface="Arial"/>
              </a:rPr>
              <a:t>(млн. ру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6021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2008 г. финансирование системы ООПТ запланировано в объеме 1516,45 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547640" y="1413000"/>
          <a:ext cx="759636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413000"/>
                    <a:ext cx="759636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06E7-8F57-4CDF-8451-7B1B001F31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c0024"/>
                </a:solidFill>
                <a:latin typeface="Arial"/>
              </a:rPr>
              <a:t>Ведомственные целевые программы</a:t>
            </a:r>
            <a:br>
              <a:rPr sz="2800"/>
            </a:br>
            <a:r>
              <a:rPr b="1" lang="en-US" sz="2800" spc="-1" strike="noStrike">
                <a:solidFill>
                  <a:srgbClr val="bc0024"/>
                </a:solidFill>
                <a:latin typeface="Arial"/>
              </a:rPr>
              <a:t>Минприроды России в сфере ОО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9280" y="1125360"/>
          <a:ext cx="8785080" cy="4425840"/>
        </p:xfrm>
        <a:graphic>
          <a:graphicData uri="http://schemas.openxmlformats.org/drawingml/2006/table">
            <a:tbl>
              <a:tblPr/>
              <a:tblGrid>
                <a:gridCol w="2305080"/>
                <a:gridCol w="936360"/>
                <a:gridCol w="1150920"/>
                <a:gridCol w="1152720"/>
                <a:gridCol w="1081080"/>
                <a:gridCol w="1079640"/>
                <a:gridCol w="10792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ача 3.4. Обеспечение  сохранности природных систем за счет развития и совершенствования системы особо ООП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7,6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35,8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0,6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32,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87,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5,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ЦП "Совершенствование государственной политики в сфере особо охраняемых природных территорий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2008-2010 годы)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ЦП "Повышение эффективности деятельности особо охраняемых природных территорий федерального значения (2008-2010 годы)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4,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87,7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30,6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CA69-56FB-4CBB-BECC-A7F19388B9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187280" y="1763640"/>
          <a:ext cx="7848720" cy="42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63640"/>
                    <a:ext cx="7848720" cy="42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0024"/>
                </a:solidFill>
                <a:latin typeface="Arial"/>
              </a:rPr>
              <a:t>Разработка ведомственной целевой программы</a:t>
            </a:r>
            <a:br>
              <a:rPr sz="2400"/>
            </a:br>
            <a:r>
              <a:rPr b="1" lang="en-US" sz="2400" spc="-1" strike="noStrike">
                <a:solidFill>
                  <a:srgbClr val="bc0024"/>
                </a:solidFill>
                <a:latin typeface="Arial"/>
              </a:rPr>
              <a:t>Минприроды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FC0E-5D57-4402-8EE1-4A86C08F5B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860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c0024"/>
                </a:solidFill>
                <a:latin typeface="Arial"/>
              </a:rPr>
              <a:t>АВЦП Минприроды России «Совершенствование государственной поли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c0024"/>
                </a:solidFill>
                <a:latin typeface="Arial"/>
              </a:rPr>
              <a:t>в сфере ООПТ (2008 – 2010 годы)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1371600"/>
            <a:ext cx="1600200" cy="482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27432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911160"/>
            <a:ext cx="1600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Цели  АВЦ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08000" y="1371600"/>
            <a:ext cx="1981440" cy="482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08000" y="911160"/>
            <a:ext cx="1981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адачи  АВЦ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1371600"/>
            <a:ext cx="2133360" cy="482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Увеличение площади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занятой государственны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иродными заповедника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и национальными парками, млн.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Доля объектов животного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растительного мира, занесен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в Красную книгу РФ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охраняемых на особ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храняемых природ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территориях, от их общег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количества, (для вид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млекопитающих, птиц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рептилий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Количество особо охраняем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иродных территорий, имеющи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международный стату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Увеличение числа биосфер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резерватов в Росс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Доля экосистем и биомов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ставленных на территория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биосферных резерватов, о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бщего количества экосисте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и биомов Р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Количество рабочих мест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беспечиваемых ООПТ, из ни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в штате ООПТ, тыс. че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911160"/>
            <a:ext cx="2133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казате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остижения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911160"/>
            <a:ext cx="282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начение показ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7  2008 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1371600"/>
            <a:ext cx="2819520" cy="482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27640" y="1413000"/>
            <a:ext cx="295560" cy="44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т           41,8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гноз      40,61       41,2     41,8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цель           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т          50;50;70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гноз      50;50;70   52;55;75  55;60;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цель           60;80;8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т          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гноз      52             54              5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цель           58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т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36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гноз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36            38               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т           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гноз      50            55               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цель          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т           30;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гноз      30;11      40;11         55;11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цель          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1413000"/>
            <a:ext cx="143964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овершенствование государственной политики в сфере ООП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в интересах устойчивого развития Российской Федерации, поддержания экологической стабильности в регионах и обеспечения благоприятной окружающей среды для жизнедеятельности человека, сохранения национального природного и культурного достояния для настоящего и будущего поколен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79640" y="1484280"/>
            <a:ext cx="1854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Обеспечение эффективного государственного управления системой ООПТ и нормативного правового регулирования в данной сфер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Создание эффективного информационного ресурса для поддержки принятия решений в сфере ООПТ. Обеспечение изученности природных комплексов и объектов животного и растительного мира на ООПТ федерального знач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Создание условий для развития экологического просвещения, регулируемой рекреации на ООП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Развитие системы ООПТ в контексте социально-экономического развития регион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D9D9-42BC-41BD-ACB1-EE453BC876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860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c0024"/>
                </a:solidFill>
                <a:latin typeface="Arial"/>
              </a:rPr>
              <a:t>АВЦП Минприроды России «Повышение эффективности деятельности </a:t>
            </a:r>
            <a:br>
              <a:rPr sz="1800"/>
            </a:br>
            <a:r>
              <a:rPr b="1" lang="en-US" sz="1800" spc="-1" strike="noStrike">
                <a:solidFill>
                  <a:srgbClr val="bc0024"/>
                </a:solidFill>
                <a:latin typeface="Arial"/>
              </a:rPr>
              <a:t>ООПТ федерального значения (2008-2010 годы)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1371600"/>
            <a:ext cx="1600200" cy="482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27432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911160"/>
            <a:ext cx="1600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Цели  АВЦ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08000" y="1371600"/>
            <a:ext cx="1981440" cy="482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8000" y="911160"/>
            <a:ext cx="1981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адачи  АВЦ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62520" y="1371600"/>
            <a:ext cx="2133360" cy="479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Сокращение площади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неуправляемых лесных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пожаров на территориях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заповедников и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национальных парков ,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млн.г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Доля видов животных,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занесенных в Красную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книгу РФ и сохраняемых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на ООПТ, от общего числа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животных в  Красной книге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РФ , %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Количество посетителей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заповедников и национальных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парков в составе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организованных групп,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тыс. че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Увеличение площади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территории и акватории,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занятой государственными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природными заповедниками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и национальными парками,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млн. г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911160"/>
            <a:ext cx="2133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казате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остижения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911160"/>
            <a:ext cx="282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начение показ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7  2008 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56360" y="1341360"/>
            <a:ext cx="281952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7640" y="1628640"/>
            <a:ext cx="2448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акт              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гноз                      18        15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цель              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акт            80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гноз                     80         8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цель              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акт          1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гноз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2000     2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цель            2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акт          41,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гноз                      47,5          52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цель            53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1413000"/>
            <a:ext cx="1439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вышение эффективности деятельности и развитие системы ООПТ федерального зна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79640" y="1484280"/>
            <a:ext cx="1854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Обеспечение сохранения биологического разнообраз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Усиление роли ООПТ  в социально-экономическом развитии регион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Развитие и совершенствование системы ООПТ, образование новых ООП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3E69-00D2-4D1A-BE36-F69BA8F8CA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547640" y="304920"/>
            <a:ext cx="759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Мероприятия Программы «Повышение эффективности деятельности ООПТ федерального значения </a:t>
            </a:r>
            <a:br>
              <a:rPr sz="2000"/>
            </a:b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(2008-2010 годы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12920" y="3868560"/>
            <a:ext cx="39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79640" y="1484280"/>
            <a:ext cx="669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дение ревизии и инвентаризации всех ООП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азработка реестра ООПТ федерального и регионального уров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азработка системы критериев для отнесения ООПТ к той или иной катег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дготовка аналитического обзора соответствия ООПТ избранной катег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дготовка предложений по оптимизации системы ООП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жидаемые 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чение полной информации о фактическом состоянии федеральных, региональных  и местных ООПТ для оптимизации и повышения эффективности их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373-142C-49BF-B342-B0B1168D9BA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547640" y="304920"/>
            <a:ext cx="75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Мероприятия Программы «Повышение эффективности деятельности ООПТ федерального значения </a:t>
            </a:r>
            <a:br>
              <a:rPr sz="2000"/>
            </a:b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(2008-2010 годы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12920" y="3868560"/>
            <a:ext cx="39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79640" y="1484280"/>
            <a:ext cx="66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Ведение кадастра ООП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бновление кадастровых сведений, заполнение электронной формы кадас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жидаемые 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дастровые сведения обновлены для 100 % государственных природных заповедников и национальных парков, заказников, памятников природы, природных парков федерального уров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EA6C-53AB-44B7-8669-B8DABD14A3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47640" y="304920"/>
            <a:ext cx="75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Мероприятия Программы «Повышение эффективности деятельности ООПТ федерального значения </a:t>
            </a:r>
            <a:br>
              <a:rPr sz="2000"/>
            </a:b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(2008-2010 годы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12920" y="3868560"/>
            <a:ext cx="39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1484280"/>
            <a:ext cx="720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Разработка экономических и финансовых механизмов поддержки деятельности ООПТ, экономическая оценка ООП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ка системы экономической оценки  государственных природных заповедников и национальных парков и рекомендации по ее приме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ка экономических и финансовых механизмов поддержки деятельности ООПТ, включая комплекс мер по развитию малого бизнеса в сфере организации туризма и рекреации на особо охраняемых природных территор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жидаемые 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ка экономической оценки  ООП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ая и финансовая оценка экосистемных услуг ООП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C8EA-1216-486D-9659-CF3F9B14F98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547640" y="304920"/>
            <a:ext cx="75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Мероприятия Программы «Повышение эффективности деятельности ООПТ федерального значения </a:t>
            </a:r>
            <a:br>
              <a:rPr sz="2000"/>
            </a:b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(2008-2010 годы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12920" y="3868560"/>
            <a:ext cx="39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92360" y="1484280"/>
            <a:ext cx="720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Обеспечение планирования управления и развития деятельности государственных природных заповедников и национальных пар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дготовка проектов индивидуальных ДРОНДов и менеджмент-планов (планов по управлению и развитию деятельности государственных природных заповедников и национальных парков для ООП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жидаемые 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ОНДы как инструменты бюджетного планирования и  менеджмент-планы для всех заповедников и национальных парков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0B6-5D51-478F-8E5B-DF36464D141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010280" y="3089160"/>
            <a:ext cx="1981440" cy="139716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охранение природной среды и ландшафт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охранение рекреационных ресурсов  и создание условий для отдыха (в том числе массового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29200" y="3089160"/>
            <a:ext cx="1981080" cy="139716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охранение и восстановление природных комплекс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Восстановление редких  и ценных видов (в том числе охотничьих ресурсов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57360" y="3089160"/>
            <a:ext cx="2571840" cy="139716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охранение уникальных природных и историко-культурных объект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Регулируемый туризм и отды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охранение народных промысло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Традиционные виды природопользования коренных народо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089160"/>
            <a:ext cx="2152440" cy="139716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охранение генофонда животного и растительного ми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Научные исслед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Экологическое просвещ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4486320"/>
            <a:ext cx="3962520" cy="89388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bc0024"/>
                </a:solidFill>
                <a:latin typeface="Arial"/>
                <a:ea typeface="Arial Unicode MS"/>
              </a:rPr>
              <a:t>Земельный участок не изымается из хозяйственного оборо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57360" y="4486320"/>
            <a:ext cx="2571840" cy="89388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bc0024"/>
                </a:solidFill>
                <a:latin typeface="Arial"/>
              </a:rPr>
              <a:t>Земли функционально зонированы.                      А</a:t>
            </a:r>
            <a:r>
              <a:rPr b="1" lang="ru-RU" sz="1300" spc="-1" strike="noStrike">
                <a:solidFill>
                  <a:srgbClr val="bc0024"/>
                </a:solidFill>
                <a:latin typeface="Arial"/>
                <a:ea typeface="Arial Unicode MS"/>
              </a:rPr>
              <a:t>ренда допускается в целях рекреации</a:t>
            </a:r>
            <a:r>
              <a:rPr b="1" lang="ru-RU" sz="1300" spc="-1" strike="noStrike">
                <a:solidFill>
                  <a:srgbClr val="bc0024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4486320"/>
            <a:ext cx="2152440" cy="89388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bc0024"/>
                </a:solidFill>
                <a:latin typeface="Arial"/>
              </a:rPr>
              <a:t>Земли полностью изымаются из хозяйственного оборо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5373720"/>
            <a:ext cx="6534360" cy="128124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c0024"/>
                </a:solidFill>
                <a:latin typeface="Arial"/>
                <a:ea typeface="Arial Unicode MS"/>
              </a:rPr>
              <a:t>Ограничение по видам хозяйственной деятельности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5380200"/>
            <a:ext cx="2152440" cy="1280880"/>
          </a:xfrm>
          <a:prstGeom prst="rect">
            <a:avLst/>
          </a:prstGeom>
          <a:solidFill>
            <a:srgbClr val="f3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c0024"/>
                </a:solidFill>
                <a:latin typeface="Arial"/>
                <a:ea typeface="Arial Unicode MS"/>
              </a:rPr>
              <a:t>Ограничение по видам хозяйственной деятельности в охранных зонах и на биосферных полигон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2637000"/>
            <a:ext cx="8686800" cy="452160"/>
          </a:xfrm>
          <a:prstGeom prst="rect">
            <a:avLst/>
          </a:prstGeom>
          <a:solidFill>
            <a:srgbClr val="e7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 о д д е р ж а н и е   п р и р о д н о г о   б а л а н с 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о с п р о и з в о д с т в о   в о з о б н о в л я е м ы х   п р и р о д н ы х   р е с у р с о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1523880"/>
            <a:ext cx="1981440" cy="1113120"/>
          </a:xfrm>
          <a:prstGeom prst="rect">
            <a:avLst/>
          </a:prstGeom>
          <a:solidFill>
            <a:srgbClr val="e7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иродные па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1523880"/>
            <a:ext cx="1981080" cy="1113120"/>
          </a:xfrm>
          <a:prstGeom prst="rect">
            <a:avLst/>
          </a:prstGeom>
          <a:solidFill>
            <a:srgbClr val="e7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р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каз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едерального и регионального зна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57360" y="1523880"/>
            <a:ext cx="2571840" cy="1113120"/>
          </a:xfrm>
          <a:prstGeom prst="rect">
            <a:avLst/>
          </a:prstGeom>
          <a:solidFill>
            <a:srgbClr val="e7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цион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523880"/>
            <a:ext cx="2152440" cy="1113120"/>
          </a:xfrm>
          <a:prstGeom prst="rect">
            <a:avLst/>
          </a:prstGeom>
          <a:solidFill>
            <a:srgbClr val="e7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р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ове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57360" y="1523880"/>
            <a:ext cx="0" cy="1113120"/>
          </a:xfrm>
          <a:prstGeom prst="line">
            <a:avLst/>
          </a:prstGeom>
          <a:ln w="12600">
            <a:solidFill>
              <a:srgbClr val="a8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523880"/>
            <a:ext cx="8686800" cy="0"/>
          </a:xfrm>
          <a:prstGeom prst="line">
            <a:avLst/>
          </a:prstGeom>
          <a:ln cap="sq" w="12600">
            <a:solidFill>
              <a:srgbClr val="a8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1523880"/>
            <a:ext cx="0" cy="1113120"/>
          </a:xfrm>
          <a:prstGeom prst="line">
            <a:avLst/>
          </a:prstGeom>
          <a:ln w="12600">
            <a:solidFill>
              <a:srgbClr val="a8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1523880"/>
            <a:ext cx="0" cy="1113120"/>
          </a:xfrm>
          <a:prstGeom prst="line">
            <a:avLst/>
          </a:prstGeom>
          <a:ln w="12600">
            <a:solidFill>
              <a:srgbClr val="a8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2637000"/>
            <a:ext cx="8686800" cy="0"/>
          </a:xfrm>
          <a:prstGeom prst="line">
            <a:avLst/>
          </a:prstGeom>
          <a:ln w="12600">
            <a:solidFill>
              <a:srgbClr val="f3f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089160"/>
            <a:ext cx="8686800" cy="0"/>
          </a:xfrm>
          <a:prstGeom prst="line">
            <a:avLst/>
          </a:prstGeom>
          <a:ln w="12600">
            <a:solidFill>
              <a:srgbClr val="f3f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57360" y="3089160"/>
            <a:ext cx="0" cy="3571920"/>
          </a:xfrm>
          <a:prstGeom prst="line">
            <a:avLst/>
          </a:prstGeom>
          <a:ln w="12600">
            <a:solidFill>
              <a:srgbClr val="a8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3089160"/>
            <a:ext cx="0" cy="2291040"/>
          </a:xfrm>
          <a:prstGeom prst="line">
            <a:avLst/>
          </a:prstGeom>
          <a:ln w="12600">
            <a:solidFill>
              <a:srgbClr val="a8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10280" y="3089160"/>
            <a:ext cx="0" cy="1397160"/>
          </a:xfrm>
          <a:prstGeom prst="line">
            <a:avLst/>
          </a:prstGeom>
          <a:ln w="12600">
            <a:solidFill>
              <a:srgbClr val="a8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5380200"/>
            <a:ext cx="8686800" cy="0"/>
          </a:xfrm>
          <a:prstGeom prst="line">
            <a:avLst/>
          </a:prstGeom>
          <a:ln w="12600">
            <a:solidFill>
              <a:srgbClr val="a8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6661080"/>
            <a:ext cx="8686800" cy="0"/>
          </a:xfrm>
          <a:prstGeom prst="line">
            <a:avLst/>
          </a:prstGeom>
          <a:ln cap="sq" w="12600">
            <a:solidFill>
              <a:srgbClr val="a8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4486320"/>
            <a:ext cx="8686800" cy="0"/>
          </a:xfrm>
          <a:prstGeom prst="line">
            <a:avLst/>
          </a:prstGeom>
          <a:ln w="12600">
            <a:solidFill>
              <a:srgbClr val="a8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637000"/>
            <a:ext cx="0" cy="452160"/>
          </a:xfrm>
          <a:prstGeom prst="line">
            <a:avLst/>
          </a:prstGeom>
          <a:ln w="12600">
            <a:solidFill>
              <a:srgbClr val="a8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523880"/>
            <a:ext cx="0" cy="1113120"/>
          </a:xfrm>
          <a:prstGeom prst="line">
            <a:avLst/>
          </a:prstGeom>
          <a:ln cap="sq" w="12600">
            <a:solidFill>
              <a:srgbClr val="a8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3089160"/>
            <a:ext cx="0" cy="3571920"/>
          </a:xfrm>
          <a:prstGeom prst="line">
            <a:avLst/>
          </a:prstGeom>
          <a:ln cap="sq" w="12600">
            <a:solidFill>
              <a:srgbClr val="a8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2637000"/>
            <a:ext cx="0" cy="452160"/>
          </a:xfrm>
          <a:prstGeom prst="line">
            <a:avLst/>
          </a:prstGeom>
          <a:ln w="12600">
            <a:solidFill>
              <a:srgbClr val="a8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1523880"/>
            <a:ext cx="0" cy="1113120"/>
          </a:xfrm>
          <a:prstGeom prst="line">
            <a:avLst/>
          </a:prstGeom>
          <a:ln cap="sq" w="12600">
            <a:solidFill>
              <a:srgbClr val="a8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3089160"/>
            <a:ext cx="0" cy="3571920"/>
          </a:xfrm>
          <a:prstGeom prst="line">
            <a:avLst/>
          </a:prstGeom>
          <a:ln cap="sq" w="12600">
            <a:solidFill>
              <a:srgbClr val="a8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87640" y="260280"/>
            <a:ext cx="480060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Цели функционир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и особенности режим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основных категорий ООП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5BD5-5FE9-4F99-A4B7-34BAB66BBD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547640" y="304920"/>
            <a:ext cx="75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Мероприятия Программы «Повышение эффективности деятельности ООПТ федерального значения </a:t>
            </a:r>
            <a:br>
              <a:rPr sz="2000"/>
            </a:b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(2008-2010 годы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12920" y="3868560"/>
            <a:ext cx="39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92360" y="148428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Разработка унифицированной методики для оптимизации научно-исследовательской деятельности государственных природных заповедников и национальных парко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дготовка унифицированной методики ведения НИР государственных природных заповедников и национальных парков для оптимизации научной деятельности ООП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готовка концепции  программы малых грантов в области НИР для ООП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жидаемые 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нифицированная методика по ведению научно-исследовательской деятельности особо охраняемых природных территорий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еличение охвата ООПТ предоставлением малых грантов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BF6F-22B7-4318-AAD9-DB8DB5118F3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47640" y="304920"/>
            <a:ext cx="75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Мероприятия Программы «Повышение эффективности деятельности ООПТ федерального значения </a:t>
            </a:r>
            <a:br>
              <a:rPr sz="2000"/>
            </a:b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(2008-2010 годы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12920" y="3868560"/>
            <a:ext cx="39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92360" y="1484280"/>
            <a:ext cx="720072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Создание унифицированной системы картографического обеспечения в сфере ООПТ на базе цифрового картографирования и компьютерных технологий и создание базы данных с ГИС компонен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Информационная поддержка ООПТ, создание современной высокоэффективной государственной системы картографического обеспечения на базе цифрового картографирования и компьютерных технологий в сфере ООПТ и создание базы данных и геоинформационных систем с использованием открытой топографической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процессов управления и проектирования ООПТ,  а также интеграция ООПТ в систему ведения кадастра ООП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жидаемые результа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нифицированная система картографического обеспечения в сфере ООПТ на базе цифрового картографирования и компьютерных технолог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за данных по ООПТ с включенным в нее ГИС компонент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41D9-BCED-49CB-9248-1784C3CFB8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47640" y="304920"/>
            <a:ext cx="75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Мероприятия Программы «Повышение эффективности деятельности ООПТ федерального значения </a:t>
            </a:r>
            <a:br>
              <a:rPr sz="2000"/>
            </a:b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(2008-2010 годы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12920" y="3868560"/>
            <a:ext cx="39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92360" y="1484280"/>
            <a:ext cx="720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Совершенствование индивидуальных правоустанавливающих документов ООП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несение поправок в действующее законодательство в сфере ООПТ в соответствии с изменениями ведомственной подчиненности ООП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акет нормативных правовых и нормативных методических документов, обеспечивающих деятельность государственных природных заповедников и национальных пар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работка индивидуальных положений государственных природных заповедников и национальных пар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жидаемые 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дивидуальные положения доработаны и утверждены для 100% заповедников и национальных пар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1FAB-2278-494E-A8B0-2E0955F2E02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547640" y="304920"/>
            <a:ext cx="75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Мероприятия Программы «Повышение эффективности деятельности ООПТ федерального значения </a:t>
            </a:r>
            <a:br>
              <a:rPr sz="2000"/>
            </a:b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(2008-2010 годы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12920" y="3868560"/>
            <a:ext cx="39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92360" y="1484280"/>
            <a:ext cx="74516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. Обеспечение выполнений требований законодательства Российской Федерации, международных норм и правил в области ООП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еализация международных обязательств по Конвенции о всемирном культурном и природном наслед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еализация требований по Программе «Человек и Биосфера» ЮНЕСК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дготовка периодических отчетов по объектам всемирного природного наслед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дготовка и представление природных объектов на номинирование в Список объектов всемирного наслед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ыполнение международных обязательств по Конвенции о биологическом разнообразии в части ООП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ыполнение двусторонних обязательств по обеспечению развития международного сотрудничества в сфере ООП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ыполнение распоряжения Правительства Российской Федерации о реализации Перечня мероприятий в рамках Концепции приграничного сотрудничества в Российской Федерации (биосферные трансграничные резерват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жидаемые результа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яются задачи, возложенные на ООПТ, имеющие международный стату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0F21-2E07-408E-A14F-2943E4927C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547640" y="304920"/>
            <a:ext cx="75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Мероприятия Программы «Повышение эффективности деятельности ООПТ федерального значения </a:t>
            </a:r>
            <a:br>
              <a:rPr sz="2000"/>
            </a:b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(2008-2010 годы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12920" y="3868560"/>
            <a:ext cx="39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92360" y="1484280"/>
            <a:ext cx="74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 Завершение процедуры государственной регистрации земельных участков в заповедниках и национальных парках, обустройство границ государственных природных заповедников и национальных пар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пределение точной площади и границ земель, входящих в состав государственных природных заповедников и национальных пар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вершение межевания с соседствующими правообладателями земельных участков, входящих в границы ООПТ и  соседствующих с н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жидаемые 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чены акты государственной регистрации земель, входящих в границы ООП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нос границ в нату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ная площадь и границы земель уточнены у 100% заповедников и национальных пар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6E5-FA5C-404C-8B17-8F626D0EB17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47640" y="304920"/>
            <a:ext cx="75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Мероприятия Программы «Повышение эффективности деятельности ООПТ федерального значения </a:t>
            </a:r>
            <a:br>
              <a:rPr sz="2000"/>
            </a:b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(2008-2010 годы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12920" y="3868560"/>
            <a:ext cx="39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1484280"/>
            <a:ext cx="691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 Организация и проведение лесохозяйственных мероприятий на ООП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воевременное проведение лесоустроительных работ в государственных природных заповедниках и национальных парках, лесохозяйственных работ, включая отвод лесосек, выборочные рубки, очистку леса от захламленности, озеленение и благоустройство лесничеств, кордонов, усадеб и пр., а также проведение лесовосстановительных меро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жидаемые 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Лесохозяйственные мероприятия осуществлены в 100% ООПТ от числа нуждающихся в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55F-F329-4AA2-9B14-67E2F2C79A5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547640" y="189000"/>
            <a:ext cx="759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Мероприятия Программы «Повышение эффективности деятельности ООПТ федерального значения </a:t>
            </a:r>
            <a:br>
              <a:rPr sz="2000"/>
            </a:b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(2008-2010 годы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12920" y="3868560"/>
            <a:ext cx="39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19280" y="1357200"/>
            <a:ext cx="752472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 Организация и проведение заповедно-режимных мероприятий на ООП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- Организация  на ООПТ заповедно-режимных мероприятий,  включа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противопожарные мероприятия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 т.е. создание и ремонт минерализованных полос, противопожарных разрывов, дорог противопожарного назначения, пожарных вышек, мест забора воды, противопожарных щитов и уход за ними, содержание пожарно-химических станц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патрулирование территории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в целях инспектирования и   контроля за соблюдением заповедного режим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ремонтные работы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 т.е. прокладку и ремонт дорог, троп; строительство и ремонт кордонов и зимовий, создание, ремонт и обновление новых аншлагов и информационных щитов, установку шлагбаумов и другие меропри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еализация данных мероприятий на ООПТ чрезвычайно важна, но в силу недостаточности финансирования многие из этих мероприятий в настоящее время не проводя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Ожидаемые результа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Заповедно-режимные мероприятия осуществляются в 100% ООП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Ежегодно государственными инспекторами заповедников и национальных парков составляется 9000 протоколов и изымается 300 единиц огнестрельного оружи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E9AE-0B2D-4977-8CCD-07D1AA3B3A7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547640" y="333360"/>
            <a:ext cx="75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Мероприятия Программы «Повышение эффективности деятельности ООПТ федерального значения </a:t>
            </a:r>
            <a:br>
              <a:rPr sz="2000"/>
            </a:b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(2008-2010 годы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12920" y="3868560"/>
            <a:ext cx="39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08000" y="1773360"/>
            <a:ext cx="69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и проведение биотехнических мероприятий на ООП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Организация  на ООПТ биотехнических мероприятий, включ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егулирование численности наземных животных, расселение животных, закладку солонцов, устройство кормовых полей и подкормочных площадок, устройство искусственных  гнездовий, создание галечников, оборудование искусственных нерестилищ и п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жидаемые 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Биотехнические мероприятия профинансированы в 100% ООПТ от числа нуждающихся в н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0493-284B-40F2-A2BD-F4C2E17BB86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47640" y="333360"/>
            <a:ext cx="75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Мероприятия Программы «Повышение эффективности деятельности ООПТ федерального значения </a:t>
            </a:r>
            <a:br>
              <a:rPr sz="2000"/>
            </a:b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(2008-2010 годы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12920" y="3868560"/>
            <a:ext cx="39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35280" y="1557360"/>
            <a:ext cx="73087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 и проведение эколого-просветительских мероприятий на ООП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абота со средствами массовой информации, рекламно-издательскую деятельность, создание кино- и видеопродукции об ООПТ, ведение музейного дела, включая создание музеев природного и культурного наследия, обновление экспозиций и реставрация музейных фондов, создание «визит - центров», обновление экспозиций и интерьера «визит-центров», проведение стационарных выставок, организацию передвижных выставок и п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абота со школьниками: организация семинаров, конференций, круглых столов; организация практик и экспедиций; работа школьных лесничеств, лесных патрулей, отрядов; организация праздников, фестивалей, марафонов; проведение экологических лагерей; проведение экскурсий и п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дение экологических праздников и акций: «Марш парков», День работников заповедников, День работника леса, День птиц и п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жидаемые результа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ирование  эколого-просветительских мероприятий  в 100% ООПТ от числа нуждающихся в ни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AD33-479C-4A1C-845F-AC516719FF3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547640" y="333360"/>
            <a:ext cx="75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Мероприятия Программы «Повышение эффективности деятельности ООПТ федерального значения </a:t>
            </a:r>
            <a:br>
              <a:rPr sz="2000"/>
            </a:b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(2008-2010 годы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12920" y="3868560"/>
            <a:ext cx="39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835280" y="1557360"/>
            <a:ext cx="705780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уществление экскурсионно-туристической деятельности на  ООП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- Сотрудничество с туристическими организациями, проведение обучающих семинаров для работников туристических фир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- Подготовка экскурсоводов, программ  экскурсионно-туристической деятельности, разработка и описание экскурсионно-туристических маршрутов, прокладка и обустройство экологических троп, организация и содержание кемпингов и палаточных лагерей, благоустройство мест отдыха, создание информационно-познавательных матери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троительство, ремонт и обустройство гостиниц и остановочных пунктов, как наиболее затратные мероприятия, в настоящее время финансируются из федерального бюджета незначит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Ожидаемые результа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Финансирование  экскурсионно-туристических мероприятий  в 100% ООПТ от числа нуждающихся в ни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601-8846-4F04-AE07-1C7DD01E508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Ц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50920" y="981000"/>
          <a:ext cx="8665560" cy="4681080"/>
        </p:xfrm>
        <a:graphic>
          <a:graphicData uri="http://schemas.openxmlformats.org/drawingml/2006/table">
            <a:tbl>
              <a:tblPr/>
              <a:tblGrid>
                <a:gridCol w="2210040"/>
                <a:gridCol w="2046960"/>
                <a:gridCol w="2317320"/>
                <a:gridCol w="2091240"/>
              </a:tblGrid>
              <a:tr h="1212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Правительства Российской Федераци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тегические цели Минприроды Росси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ктические задачи Минприроды Ро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овышение уровня и качества жизни населе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 Повышение уровня здоровья и безопасности условий жизни населе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4.Повышение уровня экологической безопасности и улучшение состояния окружающей сре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овышение защищенности природной среды и обеспечения безопасности жизнедеятельности человека от негативных природных явлений и антропогенного воздейств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.Обеспечение сохранности природных систем за счёт развития и совершенствования системы особо охраняемых природных территорий (ООПТ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78D-31BE-4EAD-84B0-8807D9C826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547640" y="189000"/>
            <a:ext cx="75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Мероприятия Программы «Повышение эффективности деятельности ООПТ федерального значения </a:t>
            </a:r>
            <a:br>
              <a:rPr sz="2000"/>
            </a:b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(2008-2010 годы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112920" y="3868560"/>
            <a:ext cx="39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19280" y="1268280"/>
            <a:ext cx="7524720" cy="53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уществление научно-исследовательской  деятельности на ООП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едение научно- исследовательских работ по изучению естественных экосистем, объектов животного и растительного м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ониторинг состояния сохранности природных комплексов и объек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- Ведение Летописи природы, проведение наблюдений и обработку многолетних рядов данных, разработку рекомендаций по сохранению природных комплексов и рациональному использованию природных ресурсов, инвентаризацию основных компонентов природных комплексов, картографирование основных структурных составляющих природных комплек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- Издание тематических сборников, монографий и трудов. Популяризация результатов научных исследований, идей охраны природы является важной составляющей научно-исследовательск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- Организация и проведение (участие) научно-практических конференций, семинаров, совещаний и т.п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ИР в настоящее время практически не финансируется из федерального бюдж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Ожидаемые результа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лноценная поддержка многолетних наблюдений в заповедниках. Выпуск научных тематических сборников, монографий и трудов в 50% заповедников и национальных парков. Созданная База данных по биоте федеральных ООПТ, основанная на результатах научной деятельности заповедников и национальных пар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0048-B052-48C4-AE85-04CDF27ECEC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547640" y="549360"/>
            <a:ext cx="75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Мероприятия Программы «Повышение эффективности деятельности ООПТ федерального значения </a:t>
            </a:r>
            <a:br>
              <a:rPr sz="2000"/>
            </a:b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(2008-2010 годы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12920" y="3868560"/>
            <a:ext cx="39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0920" y="249228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. Непрограммная часть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витие инфраструктуры ООП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рплата планово-экономических отделов, бухгалте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A23-32D8-4213-BBF6-92865D5ECB2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547640" y="304920"/>
            <a:ext cx="759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Планирование финансирования на «Повышение эффективности деятельности </a:t>
            </a:r>
            <a:br>
              <a:rPr sz="2000"/>
            </a:br>
            <a:r>
              <a:rPr b="1" lang="en-US" sz="2000" spc="-1" strike="noStrike">
                <a:solidFill>
                  <a:srgbClr val="bc0024"/>
                </a:solidFill>
                <a:latin typeface="Arial"/>
              </a:rPr>
              <a:t>ООПТ федерального значения (2008-2010 годы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12920" y="2221920"/>
            <a:ext cx="390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ГО: 8126,58 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ДО: 2 933,6 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6 – 915,3 млн.руб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7 – 980,8 млн.руб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8 – 1037,5 млн.ру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ПО:  5192,98 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6 – 1623,0 млн. руб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7 – 1735,5 млн. руб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8 – 1834,5 млн.руб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3253-260D-44FB-8D24-A5B187F72A2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47640" y="30492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0024"/>
                </a:solidFill>
                <a:latin typeface="Arial"/>
              </a:rPr>
              <a:t>Связь различных документов</a:t>
            </a:r>
            <a:r>
              <a:rPr b="1" lang="en-US" sz="3600" spc="-1" strike="noStrike">
                <a:solidFill>
                  <a:srgbClr val="bc0024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12920" y="3868560"/>
            <a:ext cx="39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1773360"/>
            <a:ext cx="338436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12680" y="198900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ОНД Минприр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показател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3284640"/>
            <a:ext cx="331164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35280" y="3429000"/>
            <a:ext cx="26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ОНД ООПТ (показател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8000" y="4797360"/>
            <a:ext cx="331164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08360" y="4941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неджмент-план ООП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4292640"/>
            <a:ext cx="215640" cy="504720"/>
          </a:xfrm>
          <a:prstGeom prst="upArrow">
            <a:avLst>
              <a:gd name="adj1" fmla="val 50000"/>
              <a:gd name="adj2" fmla="val 585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88000" y="2781360"/>
            <a:ext cx="215640" cy="504720"/>
          </a:xfrm>
          <a:prstGeom prst="upArrow">
            <a:avLst>
              <a:gd name="adj1" fmla="val 50000"/>
              <a:gd name="adj2" fmla="val 585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80360" y="1268280"/>
            <a:ext cx="1295280" cy="44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20360" y="1413000"/>
            <a:ext cx="169488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ЦП «Повышение эффективности деятельности ООПТ федерального значения (2008-2010 годы)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516720" y="3573360"/>
            <a:ext cx="863640" cy="216000"/>
          </a:xfrm>
          <a:prstGeom prst="leftArrow">
            <a:avLst>
              <a:gd name="adj1" fmla="val 50000"/>
              <a:gd name="adj2" fmla="val 9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1916-B2CB-4986-921A-5107F35A116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c0024"/>
                </a:solidFill>
                <a:latin typeface="Arial"/>
              </a:rPr>
              <a:t>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47640" y="148428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c0024"/>
                </a:solidFill>
                <a:latin typeface="Arial"/>
              </a:rPr>
              <a:t>Минприроды Росс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ет нормативное правовое обеспеч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государственную политику в сфере ООП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ет государственное управление в области организации и функционирования ООП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ординирует деятельность других органов исполнительной власти по вопросам организации, использования и развития ООП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c0024"/>
                </a:solidFill>
                <a:latin typeface="Arial"/>
              </a:rPr>
              <a:t>Росприроднадз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ет государственный контроль на ООП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D11C-6F67-494B-8CD3-3285DF39AA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24"/>
                </a:solidFill>
                <a:latin typeface="Arial"/>
              </a:rPr>
              <a:t>Показатели деятельности</a:t>
            </a:r>
            <a:br>
              <a:rPr sz="3400"/>
            </a:br>
            <a:r>
              <a:rPr b="0" lang="en-US" sz="2400" spc="-1" strike="noStrike">
                <a:solidFill>
                  <a:srgbClr val="bc0024"/>
                </a:solidFill>
                <a:latin typeface="Arial"/>
              </a:rPr>
              <a:t>(по ДРОН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6560" y="2349000"/>
            <a:ext cx="6856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казатель достижения 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.5. Доля площади страны, занятой заповедниками и национальными парками, 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 2010 году значение данного показателя должно достигнуть 2,8%  (целевое значение – 3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1341360"/>
            <a:ext cx="72723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ль 3. Повышение защищенности природной среды и обеспечения безопасности жизнедеятельности человека от негативных природных явлений и антропогенного воз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49480" y="3681360"/>
          <a:ext cx="6184800" cy="276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3681360"/>
                    <a:ext cx="618480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3F33-19F4-490F-93E6-D0DAB46DED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24"/>
                </a:solidFill>
                <a:latin typeface="Arial"/>
              </a:rPr>
              <a:t>Показатели деятельности</a:t>
            </a:r>
            <a:br>
              <a:rPr sz="3400"/>
            </a:br>
            <a:r>
              <a:rPr b="0" lang="en-US" sz="2400" spc="-1" strike="noStrike">
                <a:solidFill>
                  <a:srgbClr val="bc0024"/>
                </a:solidFill>
                <a:latin typeface="Arial"/>
              </a:rPr>
              <a:t>(по ДРОН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6560" y="2349000"/>
            <a:ext cx="6856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казатели достижения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.4.2. Сокращения площади неуправляемых лесных пожаров в заповедниках и национальных парках, тыс.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 2010 году значение данного показателя должно достигнуть 15 тыс. га  (целевое значение – 10 тыс.га к 2015 год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19280" y="1413000"/>
            <a:ext cx="7272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ча 3.4. Обеспечение сохранности  природных систем за счет развития и совершенствования системы ООП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3645000"/>
            <a:ext cx="6856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.4.4. Количество посетителей заповедников и национальных парков в составе организованных групп, тыс.ч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 2010 году значение данного показателя должно достигнуть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500 тыс. чел. (целевое значение – 3 000 тыс.чел. к 2012 год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4797360"/>
            <a:ext cx="6856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.4.6. Доля видов позвоночных животных, занесенных в Красную книгу РФ и сохраняемых на ООПТ, от общего количества видов позвоночных животных в Красной книге РФ, 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 2010 году значение данного показателя должно достигнуть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%  (в перспективе целевое значение должно быть 10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D23B-FD95-4251-AA9C-D31E0F6C3C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9640" y="228240"/>
            <a:ext cx="80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c0024"/>
                </a:solidFill>
                <a:latin typeface="Arial"/>
              </a:rPr>
              <a:t>Показатели деятельности</a:t>
            </a:r>
            <a:br>
              <a:rPr sz="3600"/>
            </a:br>
            <a:r>
              <a:rPr b="0" i="1" lang="en-US" sz="2000" spc="-1" strike="noStrike">
                <a:solidFill>
                  <a:srgbClr val="bc0024"/>
                </a:solidFill>
                <a:latin typeface="Arial"/>
              </a:rPr>
              <a:t>Подготовка и внесение изменений в основные правовые а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7391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тдельные изменения в 33-ФЗ «Об ООПТ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зменения в 172-ФЗ «О переводе земель…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c0024"/>
                </a:solidFill>
                <a:latin typeface="Arial"/>
              </a:rPr>
              <a:t>(перевод лесных земель в земли ООП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правки к законопроекту «О внесении изменений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законодательные акты РФ в связи с с расшир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лномочий органов государственной власти субъектов РФ…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c0024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bc0024"/>
                </a:solidFill>
                <a:latin typeface="Arial"/>
              </a:rPr>
              <a:t>природные парки остались в ведении регион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c0024"/>
                </a:solidFill>
                <a:latin typeface="Arial"/>
              </a:rPr>
              <a:t>власти </a:t>
            </a:r>
            <a:r>
              <a:rPr b="0" i="1" lang="en-US" sz="1600" spc="-1" strike="noStrike">
                <a:solidFill>
                  <a:srgbClr val="bc0024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тдельные изменения в 33-ФЗ «Об ООПТ» </a:t>
            </a:r>
            <a:r>
              <a:rPr b="0" i="1" lang="en-US" sz="1800" spc="-1" strike="noStrike">
                <a:solidFill>
                  <a:srgbClr val="bc0024"/>
                </a:solidFill>
                <a:latin typeface="Arial"/>
              </a:rPr>
              <a:t>(законопроект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c0024"/>
                </a:solidFill>
                <a:latin typeface="Arial"/>
              </a:rPr>
              <a:t>целом согласован федеральными органами исполните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c0024"/>
                </a:solidFill>
                <a:latin typeface="Arial"/>
              </a:rPr>
              <a:t>власти, но не приня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ормативные акты по ФЗ «Об объектах культурного наслед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Заседание Правительства РФ по вопросам ООПТ – усил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инансирование ООПТ, </a:t>
            </a:r>
            <a:r>
              <a:rPr b="0" i="1" lang="en-US" sz="1800" spc="-1" strike="noStrike">
                <a:solidFill>
                  <a:srgbClr val="bc0024"/>
                </a:solidFill>
                <a:latin typeface="Arial"/>
              </a:rPr>
              <a:t>начал решаться вопрос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c0024"/>
                </a:solidFill>
                <a:latin typeface="Arial"/>
              </a:rPr>
              <a:t>землеустройству в ООП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3E98-8F40-4AF5-83EF-95665C36D1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c0024"/>
                </a:solidFill>
                <a:latin typeface="Arial"/>
              </a:rPr>
              <a:t>Показатели деятельности</a:t>
            </a:r>
            <a:br>
              <a:rPr sz="3000"/>
            </a:br>
            <a:r>
              <a:rPr b="0" i="1" lang="en-US" sz="2000" spc="-1" strike="noStrike">
                <a:solidFill>
                  <a:srgbClr val="bc0024"/>
                </a:solidFill>
                <a:latin typeface="Arial"/>
              </a:rPr>
              <a:t>Подготовка и внесение изменений в основные правовые а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03280" y="1483920"/>
            <a:ext cx="7416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зменения в 33-ФЗ «Об ООПТ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зменения в Земельный кодекс Р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зменения в Лесной кодекс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2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зменения в ФЗ «О лечебно-оздоров. местностях и курортах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2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нятие постановлений Правительства РФ (об аренде в НП и т.д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2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нятие постановления Правительства РФ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б учреждении ГПЗ «Кологривский лес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2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о порядке аренды земельных участков Н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2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об утверждении ФЦП «О развитии г.Сочи 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2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споряжение Правительства РФ о присвоении имени Абрамова Сихотэ-Алинскому ГПБ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2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нцепция законопроекта «Об ООПТ» (на согласовании в ФОИ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2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зменения в 33-ФЗ «Об ООП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2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 распоряжений Правительства РФ об учреждении 5 НП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(Калевальский, Бузулукский бор, Удэгейская легенда, Зов тигра, Анюй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31C2-AEE6-4F8B-80AC-FAF44F3EE6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00:20:54Z</dcterms:created>
  <dc:creator>Ольга Кревер</dc:creator>
  <dc:description/>
  <dc:language>en-US</dc:language>
  <cp:lastModifiedBy>aleksandrov</cp:lastModifiedBy>
  <dcterms:modified xsi:type="dcterms:W3CDTF">2008-07-11T11:29:51Z</dcterms:modified>
  <cp:revision>87</cp:revision>
  <dc:subject/>
  <dc:title>Доклад о результатах совершенствования управления системой ООПТ на территории Российской Федерации  заседание Консультативного совета  при Министре природных ресурсов  14 сентября 2007 г.</dc:title>
</cp:coreProperties>
</file>